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A2C16-D20E-4981-A2CC-FF498FEE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4D63-5C5A-4078-B3EF-8E9527FB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F19C5-DFAA-4572-8737-82201B1EB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9C8A5-1422-4ACC-8F09-9B6B42116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7E738-C514-4380-9D8A-538E1C4E3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6D143-68E3-4525-BBE3-B06C20540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536AD-C608-46BD-9E49-7EAE6E0A2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D1812-D9DA-4CB7-9275-4CC445F1F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CCF84-2EC5-48CE-AD31-AE18062C8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EA840-49DB-408E-B7FE-5109E2A13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A5896-1FC8-41CD-9F3E-B598C898A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9776-8229-4AA7-937A-6F8D2A7FA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993A-E91A-43C8-86CC-8E086A038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5D16D-57C6-42C9-90AF-7E224492A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38209-5197-416A-81F6-44D25E2E5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DA10F-A20B-4891-A70E-847C73730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AC6B5-59FD-4B21-BF49-B7531E9B7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41A00-5E31-4E8F-9AB9-0801ADBC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DEA8-44F2-4E29-8614-C96C1D2D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11E7-5AA3-49CD-B57F-D57C9F0A9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27EF6-BA63-4F24-BD58-F267984B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811F-DA9A-4FCB-B34E-16BCE4F75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216E-578E-4DA8-BE1F-EEF4333E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95D3-36DC-4B5E-A564-26B688E08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37CC-5B11-409E-A3C1-4B7989034B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3F4C-F78E-4536-BF23-0D6D1DA83D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epaso de la Literatura espa</a:t>
            </a:r>
            <a:r>
              <a:rPr b="0" lang="en-US" sz="5400" spc="-1" strike="noStrike">
                <a:solidFill>
                  <a:srgbClr val="ffffcc"/>
                </a:solidFill>
                <a:latin typeface="Arial"/>
                <a:ea typeface="Arial"/>
              </a:rPr>
              <a:t>ñ</a:t>
            </a:r>
            <a:r>
              <a:rPr b="0" lang="en-US" sz="5400" spc="-1" strike="noStrike">
                <a:solidFill>
                  <a:srgbClr val="ffffcc"/>
                </a:solidFill>
                <a:latin typeface="Tahoma"/>
                <a:ea typeface="Arial"/>
              </a:rPr>
              <a:t>ola</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de la </a:t>
            </a:r>
            <a:r>
              <a:rPr b="0" lang="en-US" sz="3200" spc="-1" strike="noStrike">
                <a:solidFill>
                  <a:srgbClr val="ffffff"/>
                </a:solidFill>
                <a:latin typeface="Tahoma"/>
                <a:ea typeface="Tahoma"/>
              </a:rPr>
              <a:t>época medieval hasta la posguerra civ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Siglo de oro: Renacimiento</a:t>
            </a:r>
            <a:endParaRPr b="0" lang="en-US" sz="4000" spc="-1" strike="noStrike">
              <a:solidFill>
                <a:srgbClr val="ffffcc"/>
              </a:solidFill>
              <a:latin typeface="Tahoma"/>
            </a:endParaRPr>
          </a:p>
        </p:txBody>
      </p:sp>
      <p:graphicFrame>
        <p:nvGraphicFramePr>
          <p:cNvPr id="10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XXIII  (“En tanto que de rosa y azuc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zarillo de Torme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Siglo de oro: Renacimiento</a:t>
            </a:r>
            <a:endParaRPr b="0" lang="en-US" sz="4000" spc="-1" strike="noStrike">
              <a:solidFill>
                <a:srgbClr val="ffffcc"/>
              </a:solidFill>
              <a:latin typeface="Tahoma"/>
            </a:endParaRPr>
          </a:p>
        </p:txBody>
      </p:sp>
      <p:graphicFrame>
        <p:nvGraphicFramePr>
          <p:cNvPr id="109"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XXIII  (“En tanto que de rosa y azuc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zarillo de Torm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zarillo, El ciego, el clérigo, el escudero, el alguaci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elleza efím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arpe diem</a:t>
                      </a: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íca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cep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var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clas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hum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oema en el que se enfatiza la idea de la temporalidad de la belleza.</a:t>
                      </a:r>
                      <a:r>
                        <a:rPr b="0" lang="en-US" sz="1400" spc="-1" strike="noStrike">
                          <a:solidFill>
                            <a:srgbClr val="ffffff"/>
                          </a:solidFill>
                          <a:latin typeface="Tahoma"/>
                        </a:rPr>
                        <a:t> </a:t>
                      </a:r>
                      <a:r>
                        <a:rPr b="0" lang="es-ES" sz="1400" spc="-1" strike="noStrike">
                          <a:solidFill>
                            <a:srgbClr val="ffffff"/>
                          </a:solidFill>
                          <a:latin typeface="Tahoma"/>
                        </a:rPr>
                        <a:t>El poeta nos recuerda que la belleza humana no es dura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Un joven huérfano cuenta las experiencias que tiene que vivir para sobrevivir bajo la tutela de varios amos, un ciego, un clérigo y finalmente un escuder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teratura del Barroco </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e consigo una renovación de técnicas y de estilos de las ideas del Renacimiento</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poetas barrocos del siglo XVII, siguieron mezclando estrofas tradicionales con las nuevas, así cultivaron el terceto, el cuarteto, el soneto y la redondilla (abba)</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intensifican los tópicos que ya venían dándose en el Renacimiento, pero en especial los más negativos: fugacidad de la vida, rapidez con que el tiempo huye, desaparición de los goces, complejidad del mundo que rodea al hombre, etc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nales del siglo XVI, la situación social y política de España predispone a los escritores a imbuirse de lleno en este movimiento: el hambre, la peste, la desigualdad social, los pícaros, los mendigos, las miserias, los sueños de grandeza, etc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3" name=""/>
          <p:cNvGraphicFramePr/>
          <p:nvPr/>
        </p:nvGraphicFramePr>
        <p:xfrm>
          <a:off x="457200" y="1600200"/>
          <a:ext cx="8229600" cy="6907320"/>
        </p:xfrm>
        <a:graphic>
          <a:graphicData uri="http://schemas.openxmlformats.org/drawingml/2006/table">
            <a:tbl>
              <a:tblPr/>
              <a:tblGrid>
                <a:gridCol w="2057400"/>
                <a:gridCol w="2057400"/>
                <a:gridCol w="2057400"/>
                <a:gridCol w="2057400"/>
              </a:tblGrid>
              <a:tr h="6933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ingenioso hidalgo don Quijote de la Manch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CLXVI  (“Mientras por competir con tu cabell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lmo XVII, de Un heráclito cristiano (“Miré los muros de la patria m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5" name=""/>
          <p:cNvGraphicFramePr/>
          <p:nvPr/>
        </p:nvGraphicFramePr>
        <p:xfrm>
          <a:off x="457200" y="1600200"/>
          <a:ext cx="8229600" cy="6834240"/>
        </p:xfrm>
        <a:graphic>
          <a:graphicData uri="http://schemas.openxmlformats.org/drawingml/2006/table">
            <a:tbl>
              <a:tblPr/>
              <a:tblGrid>
                <a:gridCol w="2057400"/>
                <a:gridCol w="2057400"/>
                <a:gridCol w="2057400"/>
                <a:gridCol w="2057400"/>
              </a:tblGrid>
              <a:tr h="683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ingenioso hidalgo don Quijote de la Manch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neto CLXVI  (“Mientras por competir con tu cabell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lmo XVII, de Un heráclito cristiano (“Miré los muros de la patria m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n Quijote, Sancho Panza, el ventero, el cura, el barbero, Sansón Carrasco, Dulcinea del Toboso, la sobrina, el ama, Rocinant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 irreal vs. Lo re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idealismo vs. El materialism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ventu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elleza efím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arpe diem</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o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trucció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arodia de los libros de caballería, en la que el protagonista, transforma con su imaginación la realidad común y simple</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Tahoma"/>
                        </a:rPr>
                        <a:t>El autor canta a la belleza femenina, pero lamenta que esté troncada en el futuro. </a:t>
                      </a:r>
                      <a:r>
                        <a:rPr b="0" lang="es-ES" sz="1200" spc="-1" strike="noStrike">
                          <a:solidFill>
                            <a:srgbClr val="ffffff"/>
                          </a:solidFill>
                          <a:latin typeface="Tahoma"/>
                        </a:rPr>
                        <a:t>El poeta dice a su amada que la juventud es pasajera y que hay que disfrutarla antes de que sea demasiado tarde.</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Poema en el que Quevedo contempla el paso del tiempo y los estragos de la guerra.</a:t>
                      </a:r>
                      <a:r>
                        <a:rPr b="0" lang="en-US" sz="1000" spc="-1" strike="noStrike">
                          <a:solidFill>
                            <a:srgbClr val="ffffff"/>
                          </a:solidFill>
                          <a:latin typeface="Tahoma"/>
                        </a:rPr>
                        <a:t> </a:t>
                      </a:r>
                      <a:r>
                        <a:rPr b="0" lang="es-ES" sz="1000" spc="-1" strike="noStrike">
                          <a:solidFill>
                            <a:srgbClr val="ffffff"/>
                          </a:solidFill>
                          <a:latin typeface="Tahoma"/>
                        </a:rPr>
                        <a:t>Quevedo contempla meditabundo el implacable paso del tiempo, indicios del cual encuentra dondequiera que pone la vista.</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7" name=""/>
          <p:cNvGraphicFramePr/>
          <p:nvPr/>
        </p:nvGraphicFramePr>
        <p:xfrm>
          <a:off x="457200" y="1600200"/>
          <a:ext cx="8229600" cy="5303880"/>
        </p:xfrm>
        <a:graphic>
          <a:graphicData uri="http://schemas.openxmlformats.org/drawingml/2006/table">
            <a:tbl>
              <a:tblPr/>
              <a:tblGrid>
                <a:gridCol w="2057400"/>
                <a:gridCol w="2057400"/>
                <a:gridCol w="2057400"/>
                <a:gridCol w="2057400"/>
              </a:tblGrid>
              <a:tr h="577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burlador de Sevilla y convidado de pied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Quéjase de la suerte: insinúa su aversión a los vicios, y justifica su divertimiento a las Musas (“En perseguirme, Mundo, ¿qué interes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átira filosófica: arguye de inconsecuencia el gusto y la censura de los hombres que en las mujeres acusan lo que causan      (“Hombres necios que acusái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I:   SIGLO DE ORO: BARROCO</a:t>
            </a:r>
            <a:endParaRPr b="0" lang="en-US" sz="4000" spc="-1" strike="noStrike">
              <a:solidFill>
                <a:srgbClr val="ffffcc"/>
              </a:solidFill>
              <a:latin typeface="Tahoma"/>
            </a:endParaRPr>
          </a:p>
        </p:txBody>
      </p:sp>
      <p:graphicFrame>
        <p:nvGraphicFramePr>
          <p:cNvPr id="119" name=""/>
          <p:cNvGraphicFramePr/>
          <p:nvPr/>
        </p:nvGraphicFramePr>
        <p:xfrm>
          <a:off x="457200" y="1600200"/>
          <a:ext cx="8229600" cy="6364440"/>
        </p:xfrm>
        <a:graphic>
          <a:graphicData uri="http://schemas.openxmlformats.org/drawingml/2006/table">
            <a:tbl>
              <a:tblPr/>
              <a:tblGrid>
                <a:gridCol w="2057400"/>
                <a:gridCol w="2057400"/>
                <a:gridCol w="2057400"/>
                <a:gridCol w="2057400"/>
              </a:tblGrid>
              <a:tr h="654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burlador de Sevilla y convidado de pied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Quéjase de la suerte: insinúa su aversión a los vicios, y justifica su divertimiento a las Musas (“En perseguirme, Mundo, ¿qué interes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átira filosófica: arguye de inconsecuencia el gusto y la censura de los hombres que en las mujeres acusan lo que causan      (“Hombres necios que acusái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ahoma"/>
                        </a:rPr>
                        <a:t>Don Juan, Catalinón, Tisbea, El rey, Don Gonzalo, Doña Ana, Don Octavio, Isabela, de la Mota, Batricio, Aminta, Gaseno</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poetisa</a:t>
                      </a: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ecepc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traic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burl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iferencia entre los roles sociales de los hombres y las mujer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venganz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pasió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l pecado</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feminism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rítica a la superficialidad de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intelec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diferencia entre los roles sociales de los hombres y las mujer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La injusticia</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xpectativas social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ahoma"/>
                        </a:rPr>
                        <a:t>El machism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00"/>
                          </a:solidFill>
                          <a:latin typeface="Tahoma"/>
                        </a:rPr>
                        <a:t>Obra de teatro que cuenta  cómo el protagonista, acompañado de su amigo, Catalinón, seduce por medio de engaños a las mujeres de la alta sociedad</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Poema que cuenta có</a:t>
                      </a:r>
                      <a:r>
                        <a:rPr b="0" lang="es-VE" sz="1000" spc="-1" strike="noStrike">
                          <a:solidFill>
                            <a:srgbClr val="ffffff"/>
                          </a:solidFill>
                          <a:latin typeface="Tahoma"/>
                        </a:rPr>
                        <a:t>mo Sor Juana responde al ataque del resto de la sociedad Mexicana de esa época; expresa lo difícil que es ser mujer en este espacio y este tiempo. </a:t>
                      </a:r>
                      <a:r>
                        <a:rPr b="0" lang="es-ES" sz="1000" spc="-1" strike="noStrike">
                          <a:solidFill>
                            <a:srgbClr val="ffffff"/>
                          </a:solidFill>
                          <a:latin typeface="Tahoma"/>
                        </a:rPr>
                        <a:t>En este soneto, Sor Juana se queja de la falta de comprensión de que es objeto, y defiende su pasión por la poesía y por los estudios</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00"/>
                          </a:solidFill>
                          <a:latin typeface="Tahoma"/>
                        </a:rPr>
                        <a:t>Poema en el que la poetisa reprocha a los hombres su actitud ante las mujeres.</a:t>
                      </a:r>
                      <a:r>
                        <a:rPr b="0" lang="en-US" sz="1000" spc="-1" strike="noStrike">
                          <a:solidFill>
                            <a:srgbClr val="ffff00"/>
                          </a:solidFill>
                          <a:latin typeface="Tahoma"/>
                        </a:rPr>
                        <a:t> </a:t>
                      </a:r>
                      <a:r>
                        <a:rPr b="0" lang="es-ES" sz="1000" spc="-1" strike="noStrike">
                          <a:solidFill>
                            <a:srgbClr val="ffff00"/>
                          </a:solidFill>
                          <a:latin typeface="Tahoma"/>
                        </a:rPr>
                        <a:t>Sor Juana satiriza las relaciones entre hombres y mujeres, exponiendo a su burla la falta de lógica del hombre que acusa a la mujer del comportamiento que él mismo provoca en ella</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omanticismo   </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mpe con los esquemas establecidos en el Neoclasicismo, defendiendo la fantasía, la imaginación y las fuerzas irracionales del espíritu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características incluyen:</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cer que la naturaleza se fusione con su estado de ánim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tuar sus sentimientos dolientes y defraudados en lugares misteriosos o melancólicos, como ruinas, bosques, cementerios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hazar de la sociedad burguesa en la que les ha tocado vivi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3" name=""/>
          <p:cNvGraphicFramePr/>
          <p:nvPr/>
        </p:nvGraphicFramePr>
        <p:xfrm>
          <a:off x="457200" y="1600200"/>
          <a:ext cx="8229600" cy="5340240"/>
        </p:xfrm>
        <a:graphic>
          <a:graphicData uri="http://schemas.openxmlformats.org/drawingml/2006/table">
            <a:tbl>
              <a:tblPr/>
              <a:tblGrid>
                <a:gridCol w="2057400"/>
                <a:gridCol w="2057400"/>
                <a:gridCol w="2057400"/>
                <a:gridCol w="2057400"/>
              </a:tblGrid>
              <a:tr h="557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n una tempe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uelva usted mañ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nción del pira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IV (“No digáis que agotado su teso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XI (“Yo soy ardiente, yo soy mor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LIII (“Volverán las oscuras golondrin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alacrán de fray Gómez</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5" name=""/>
          <p:cNvGraphicFramePr/>
          <p:nvPr/>
        </p:nvGraphicFramePr>
        <p:xfrm>
          <a:off x="457200" y="1600200"/>
          <a:ext cx="8229600" cy="5126040"/>
        </p:xfrm>
        <a:graphic>
          <a:graphicData uri="http://schemas.openxmlformats.org/drawingml/2006/table">
            <a:tbl>
              <a:tblPr/>
              <a:tblGrid>
                <a:gridCol w="2057400"/>
                <a:gridCol w="2057400"/>
                <a:gridCol w="2057400"/>
                <a:gridCol w="2057400"/>
              </a:tblGrid>
              <a:tr h="555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n una tempe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uelva usted mañ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Monsieur Sans-Délai</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vulnerabilidad y admiración del hombre ante Di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ceptación /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ere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burocra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hoque cultur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n esta oda, Heredia se entrega al poder sublime de la naturaleza y de Dios, manifiesto en la grandeza y majestad de una tormenta en las costas de Cuba</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a historia de un extranjero y todos los percances y dificultades que tiene que enfrentar para llevar a cabo una diligencia que en su país no tomaría más de unos días, pero que en este país extranjero donde reina la corrupción y la pereza, se hace interminabl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acterísticas de la Edad Media </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mundo rigurosamente ordenado, codificado y compartimentado en todos los aspectos, y el principio de autoridad no se discute</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analfabetismo es enorme y la literatura es con frecuencia oral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ivencia cultural de musulmanes, cristianos y judíos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írica popular: canciones que eran cantadas por la población humilde, predominantemente rur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7"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91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nción del pira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IV (“No digáis que agotado su tesoro”)</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liber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gual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rítica socio-económic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aso del tiempo</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oema que describe la vida y el barco de un pirata cuya única ambición es la libertad. Espronceda celebra la vida del pirata como alegoría de la libertad del individu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Poema en el que el autor se lamenta del paso del tiempo y expresa su añoranza por la juventud. </a:t>
                      </a:r>
                      <a:r>
                        <a:rPr b="0" lang="es-ES" sz="1400" spc="-1" strike="noStrike">
                          <a:solidFill>
                            <a:srgbClr val="ffffff"/>
                          </a:solidFill>
                          <a:latin typeface="Tahoma"/>
                        </a:rPr>
                        <a:t>El poeta intuye que la poesía nunca morirá mientras subsistan la belleza y el misterio en el mund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29"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72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XI (“Yo soy ardiente, yo soy more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ima LIII (“Volverán las oscuras golondrin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platónico vs. El amor carn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o aceptación de no ser ama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Poema en el que el autor busca incansablemente a su amor ideal. Las mujeres terrenales se le ofrecen casi sin esfuerzo, mas la que él tanto busca, la espiritual, se le niega abiertamente. </a:t>
                      </a:r>
                      <a:r>
                        <a:rPr b="0" lang="es-ES" sz="1200" spc="-1" strike="noStrike">
                          <a:solidFill>
                            <a:srgbClr val="ffffff"/>
                          </a:solidFill>
                          <a:latin typeface="Tahoma"/>
                        </a:rPr>
                        <a:t>Bécquer evoca los misterios de la correspondencia amorosa y de lo que despierta en él el amor</a:t>
                      </a:r>
                      <a:endParaRPr b="0" lang="en-US" sz="12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hombre reacciona con mucha pasión ante un amor que jamás volverá. El poeta se recrea en el dolor de un idilio amoroso que ha sido, y en el recuerdo de sus momentos irrecuperable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ROMANTICISMO</a:t>
            </a:r>
            <a:endParaRPr b="0" lang="en-US" sz="4400" spc="-1" strike="noStrike">
              <a:solidFill>
                <a:srgbClr val="ffffcc"/>
              </a:solidFill>
              <a:latin typeface="Tahoma"/>
            </a:endParaRPr>
          </a:p>
        </p:txBody>
      </p:sp>
      <p:graphicFrame>
        <p:nvGraphicFramePr>
          <p:cNvPr id="13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l alacrán de fray Gómez</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ray Gómez, Un hombre muy pobr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o irrea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religión y la f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compasió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honestida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a historia de cómo un viejo fraile ayuda a un pobre  hombre y cómo el hombre acepta humildemente la ayuda y se compromete a cumplir de acuerdo a su necesidad y no a su ambición.</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ealismo y Naturalismo</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valores e inquietudes de la clase burguesa aparecen reflejados como en un espejo en la literatura del Realismo: individualismo, materialismo, deseo de ascenso social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temas del Realismo literario son fundamentalmente el contraste entre </a:t>
            </a:r>
            <a:r>
              <a:rPr b="0" lang="es-ES" sz="2400" spc="-1" strike="noStrike">
                <a:solidFill>
                  <a:srgbClr val="ffff00"/>
                </a:solidFill>
                <a:latin typeface="Tahoma"/>
              </a:rPr>
              <a:t>los valores tradicionales</a:t>
            </a:r>
            <a:r>
              <a:rPr b="0" lang="es-ES" sz="2400" spc="-1" strike="noStrike">
                <a:solidFill>
                  <a:srgbClr val="ffffff"/>
                </a:solidFill>
                <a:latin typeface="Tahoma"/>
              </a:rPr>
              <a:t> </a:t>
            </a:r>
            <a:r>
              <a:rPr b="0" lang="es-ES" sz="2400" spc="-1" strike="noStrike">
                <a:solidFill>
                  <a:srgbClr val="ffff00"/>
                </a:solidFill>
                <a:latin typeface="Tahoma"/>
              </a:rPr>
              <a:t>y campesinos</a:t>
            </a:r>
            <a:r>
              <a:rPr b="0" lang="es-ES" sz="2400" spc="-1" strike="noStrike">
                <a:solidFill>
                  <a:srgbClr val="ffffff"/>
                </a:solidFill>
                <a:latin typeface="Tahoma"/>
              </a:rPr>
              <a:t> y </a:t>
            </a:r>
            <a:r>
              <a:rPr b="0" lang="es-ES" sz="2400" spc="-1" strike="noStrike">
                <a:solidFill>
                  <a:srgbClr val="ffff00"/>
                </a:solidFill>
                <a:latin typeface="Tahoma"/>
              </a:rPr>
              <a:t>los valores modernos y urbanos</a:t>
            </a:r>
            <a:r>
              <a:rPr b="0" lang="es-ES" sz="2400" spc="-1" strike="noStrike">
                <a:solidFill>
                  <a:srgbClr val="ffffff"/>
                </a:solidFill>
                <a:latin typeface="Tahoma"/>
              </a:rPr>
              <a:t> o </a:t>
            </a:r>
            <a:r>
              <a:rPr b="0" lang="es-ES" sz="2400" spc="-1" strike="noStrike">
                <a:solidFill>
                  <a:srgbClr val="ffff00"/>
                </a:solidFill>
                <a:latin typeface="Tahoma"/>
              </a:rPr>
              <a:t>el éxodo del campo a la ciudad</a:t>
            </a:r>
            <a:r>
              <a:rPr b="0" lang="es-ES" sz="2400" spc="-1" strike="noStrike">
                <a:solidFill>
                  <a:srgbClr val="ffffff"/>
                </a:solidFill>
                <a:latin typeface="Tahoma"/>
              </a:rPr>
              <a:t> y </a:t>
            </a:r>
            <a:r>
              <a:rPr b="0" lang="es-ES" sz="2400" spc="-1" strike="noStrike">
                <a:solidFill>
                  <a:srgbClr val="ffff00"/>
                </a:solidFill>
                <a:latin typeface="Tahoma"/>
              </a:rPr>
              <a:t>los contrastes sociales y morales</a:t>
            </a:r>
            <a:r>
              <a:rPr b="0" lang="es-ES" sz="2400" spc="-1" strike="noStrike">
                <a:solidFill>
                  <a:srgbClr val="ffffff"/>
                </a:solidFill>
                <a:latin typeface="Tahoma"/>
              </a:rPr>
              <a:t> que provoca, </a:t>
            </a:r>
            <a:r>
              <a:rPr b="0" lang="es-ES" sz="2400" spc="-1" strike="noStrike">
                <a:solidFill>
                  <a:srgbClr val="ffff00"/>
                </a:solidFill>
                <a:latin typeface="Tahoma"/>
              </a:rPr>
              <a:t>la lucha por el ascenso social</a:t>
            </a:r>
            <a:r>
              <a:rPr b="0" lang="es-ES" sz="2400" spc="-1" strike="noStrike">
                <a:solidFill>
                  <a:srgbClr val="ffffff"/>
                </a:solidFill>
                <a:latin typeface="Tahoma"/>
              </a:rPr>
              <a:t> y </a:t>
            </a:r>
            <a:r>
              <a:rPr b="0" lang="es-ES" sz="2400" spc="-1" strike="noStrike">
                <a:solidFill>
                  <a:srgbClr val="ffff00"/>
                </a:solidFill>
                <a:latin typeface="Tahoma"/>
              </a:rPr>
              <a:t>el éxito moral y económico</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dos tendencias en el Realismo: la progresista y la conservador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española del Realismo y Naturalismo</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iste un espíritu de lucha contra la ideología conservadora y, en muchas ocasiones, su comportamiento subversiv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efleja generalmente ambientes regiona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IX: REALISMO Y NATURALISMO</a:t>
            </a:r>
            <a:endParaRPr b="0" lang="en-US" sz="4000" spc="-1" strike="noStrike">
              <a:solidFill>
                <a:srgbClr val="ffffcc"/>
              </a:solidFill>
              <a:latin typeface="Tahoma"/>
            </a:endParaRPr>
          </a:p>
        </p:txBody>
      </p:sp>
      <p:graphicFrame>
        <p:nvGraphicFramePr>
          <p:cNvPr id="13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iós, Cor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s medias roja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IX: REALISMO Y NATURALISMO</a:t>
            </a:r>
            <a:endParaRPr b="0" lang="en-US" sz="4000" spc="-1" strike="noStrike">
              <a:solidFill>
                <a:srgbClr val="ffffcc"/>
              </a:solidFill>
              <a:latin typeface="Tahoma"/>
            </a:endParaRPr>
          </a:p>
        </p:txBody>
      </p:sp>
      <p:graphicFrame>
        <p:nvGraphicFramePr>
          <p:cNvPr id="139" name=""/>
          <p:cNvGraphicFramePr/>
          <p:nvPr/>
        </p:nvGraphicFramePr>
        <p:xfrm>
          <a:off x="457200" y="1600200"/>
          <a:ext cx="8229600" cy="5297400"/>
        </p:xfrm>
        <a:graphic>
          <a:graphicData uri="http://schemas.openxmlformats.org/drawingml/2006/table">
            <a:tbl>
              <a:tblPr/>
              <a:tblGrid>
                <a:gridCol w="2057400"/>
                <a:gridCol w="2057400"/>
                <a:gridCol w="2057400"/>
                <a:gridCol w="2057400"/>
              </a:tblGrid>
              <a:tr h="5490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Adiós, Corde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medias roj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inín, Rosa, la corde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ldara, el pad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sacrifici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njust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avances tecnológic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njustic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esperanza y la desilu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vida y los sacrificios de dos niños y una vaca durante la guerra civil española.</a:t>
                      </a:r>
                      <a:r>
                        <a:rPr b="0" lang="en-US" sz="1200" spc="-1" strike="noStrike">
                          <a:solidFill>
                            <a:srgbClr val="ffffff"/>
                          </a:solidFill>
                          <a:latin typeface="Tahoma"/>
                        </a:rPr>
                        <a:t> </a:t>
                      </a:r>
                      <a:r>
                        <a:rPr b="0" lang="es-ES" sz="1200" spc="-1" strike="noStrike">
                          <a:solidFill>
                            <a:srgbClr val="ffffff"/>
                          </a:solidFill>
                          <a:latin typeface="Tahoma"/>
                        </a:rPr>
                        <a:t>Una vaca, llamada Cordera, aparece como la figura central de este cuento que examina la vida de Rosa y su hermano Pinín en una región rural de España</a:t>
                      </a:r>
                      <a:r>
                        <a:rPr b="0" lang="en-US" sz="1400" spc="-1" strike="noStrike">
                          <a:solidFill>
                            <a:srgbClr val="ffffff"/>
                          </a:solidFill>
                          <a:latin typeface="Tahoma"/>
                        </a:rPr>
                        <a:t>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Ildara, una joven que sueña con la esperanza de abandonar el pequeño pueblo de Galicia en el que vive, ve con dolor y resignación cómo su propio padre trunca esa posibilidad.</a:t>
                      </a:r>
                      <a:r>
                        <a:rPr b="0" lang="en-US" sz="1200" spc="-1" strike="noStrike">
                          <a:solidFill>
                            <a:srgbClr val="ffffff"/>
                          </a:solidFill>
                          <a:latin typeface="Tahoma"/>
                        </a:rPr>
                        <a:t> </a:t>
                      </a:r>
                      <a:r>
                        <a:rPr b="0" lang="es-ES" sz="1200" spc="-1" strike="noStrike">
                          <a:solidFill>
                            <a:srgbClr val="ffffff"/>
                          </a:solidFill>
                          <a:latin typeface="Tahoma"/>
                        </a:rPr>
                        <a:t>Ildara, una joven que vive en un pueblo de Galicia a principios del siglo XX, abriga la esperanza de librarse pronto de la tiranía de su tío Clodi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dernismo </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autores modernistas, principalmente poetas, fueron fuertemente influidos por Edgar Allan Poe y Walt Whitman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acterísticas del modernismo incluyen:</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hazo de la realidad cotidiana. Ante ésta, el escritor tiene dos posibilidades: huida en el tiempo (con lo que canta a épocas pasadas que considera más esplendorosas que suya) o huida en el espacio (los poemas se desarrollan en lugares exóticos)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úsqueda de la belleza, que -según los modernistas- se consigue a través de una adjetivación en la que predomina el color y los matices relacionados con los cinco sentidos del cuerpo</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estran tanto una fidelidad a las grandes estrofas clásicas como el gusto por ensayar variaciones sobre estos moldes métricos (vuelven a utilizar versos medievales como </a:t>
            </a:r>
            <a:r>
              <a:rPr b="0" lang="en-US" sz="2000" spc="-1" strike="noStrike">
                <a:solidFill>
                  <a:srgbClr val="ffff00"/>
                </a:solidFill>
                <a:latin typeface="Tahoma"/>
              </a:rPr>
              <a:t>el alejandrino</a:t>
            </a:r>
            <a:r>
              <a:rPr b="0" lang="en-US" sz="2000" spc="-1" strike="noStrike">
                <a:solidFill>
                  <a:srgbClr val="ffffff"/>
                </a:solidFill>
                <a:latin typeface="Tahoma"/>
              </a:rPr>
              <a:t>, de catorce sílabas, </a:t>
            </a:r>
            <a:r>
              <a:rPr b="0" lang="en-US" sz="2000" spc="-1" strike="noStrike">
                <a:solidFill>
                  <a:srgbClr val="ffff00"/>
                </a:solidFill>
                <a:latin typeface="Tahoma"/>
              </a:rPr>
              <a:t>el dodecasílabo</a:t>
            </a:r>
            <a:r>
              <a:rPr b="0" lang="en-US" sz="2000" spc="-1" strike="noStrike">
                <a:solidFill>
                  <a:srgbClr val="ffffff"/>
                </a:solidFill>
                <a:latin typeface="Tahoma"/>
              </a:rPr>
              <a:t>, de doce, y </a:t>
            </a:r>
            <a:r>
              <a:rPr b="0" lang="en-US" sz="2000" spc="-1" strike="noStrike">
                <a:solidFill>
                  <a:srgbClr val="ffff00"/>
                </a:solidFill>
                <a:latin typeface="Tahoma"/>
              </a:rPr>
              <a:t>el eneasílabo</a:t>
            </a:r>
            <a:r>
              <a:rPr b="0" lang="en-US" sz="2000" spc="-1" strike="noStrike">
                <a:solidFill>
                  <a:srgbClr val="ffffff"/>
                </a:solidFill>
                <a:latin typeface="Tahoma"/>
              </a:rPr>
              <a:t>, de nueve); enriquecen el soneto aportándole nuevas variantes y ensayan nuevos tipos de estrofas y versos</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modernistas utilizaban unos símbolos que eran inspirados en la naturaleza, como por ejemplo: los atardeceres y las maripos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ersos sencillos, I   (“Yo soy un hombre since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Dos patrias   (“Dos patrias tengo yo: Cuba y la noch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anción de otoño en primavera, Poema V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o fatal, Poema XLI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Roosevelt, Poema VIII</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5" name=""/>
          <p:cNvGraphicFramePr/>
          <p:nvPr/>
        </p:nvGraphicFramePr>
        <p:xfrm>
          <a:off x="457200" y="1600200"/>
          <a:ext cx="8229600" cy="5181480"/>
        </p:xfrm>
        <a:graphic>
          <a:graphicData uri="http://schemas.openxmlformats.org/drawingml/2006/table">
            <a:tbl>
              <a:tblPr/>
              <a:tblGrid>
                <a:gridCol w="2057400"/>
                <a:gridCol w="2057400"/>
                <a:gridCol w="2057400"/>
                <a:gridCol w="2057400"/>
              </a:tblGrid>
              <a:tr h="549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ersos sencillos, I   (“Yo soy un hombre sincer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s patrias   (“Dos patrias tengo yo: Cuba y la noch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mili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mist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icultades de la vi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volu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sesperan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 de la guer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Tahoma"/>
                        </a:rPr>
                        <a:t>Poema en el que el narrador reflexiona sobre la vida, y la importancia de mantenerla simple. El poema en su totalidad trata varios temas que son preciados para el poeta como su familia y los dolores de su vida. </a:t>
                      </a:r>
                      <a:r>
                        <a:rPr b="0" lang="es-ES" sz="1000" spc="-1" strike="noStrike">
                          <a:solidFill>
                            <a:srgbClr val="ffffff"/>
                          </a:solidFill>
                          <a:latin typeface="Tahoma"/>
                        </a:rPr>
                        <a:t>Martí expresa sus valores humanos: la sinceridad, la sencillez en la vida, el amor por su patria, su admiración por las artes y la naturaleza, su horror ante el mal y la injusticia, y su deseo de libertad</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Tahoma"/>
                        </a:rPr>
                        <a:t>Un hombre se lamenta de la esperanza perdida que hay sobre su país.  Sabe que en la noche, muchas cosas pueden cambiar y que hay tal vez una posibilidad de luchar, pero se ha perdido la esperanza y sabe que habrá muchos muertos. </a:t>
                      </a:r>
                      <a:r>
                        <a:rPr b="0" lang="es-ES" sz="1000" spc="-1" strike="noStrike">
                          <a:solidFill>
                            <a:srgbClr val="ffffff"/>
                          </a:solidFill>
                          <a:latin typeface="Tahoma"/>
                        </a:rPr>
                        <a:t>Martí piensa en su patria, Cuba, en medio de la noche. Para Martí, la falta de libertad en su patria es como la falta de sol o como el silencio de la noche. Martí intuye que para que Cuba sea libre, él mismo tendrá que morir en el campo de batalla</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acterísticas de la Edad Media</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ntares de gesta:  Una serie de obras en verso que cuentan las hazañas de un héroe nacional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romances:  un número indefinido de octosílabos con rima asonante en los versos pares. Por su tema, los romances pueden clasificarse 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Tradicionales: Provienen de un hecho histórico o de los cantares de gest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Juglarescos: Su origen es diferente de los anterior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61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anción de otoño en primavera, Poema V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o fatal, Poema XLI</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imposibl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rpe diem</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miedo a la muer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El narrador era muy feliz en un mundo de dolor.  A través de varias mujeres que le hacen daño el narrador va perdiendo su inocencia y felicidad.  Después lamenta esta pérdida en su estribillo: “Juventud, divino tesoro, hoy te vas para no volver...” </a:t>
                      </a:r>
                      <a:r>
                        <a:rPr b="0" lang="es-ES" sz="1000" spc="-1" strike="noStrike">
                          <a:solidFill>
                            <a:srgbClr val="ffffff"/>
                          </a:solidFill>
                          <a:latin typeface="Tahoma"/>
                        </a:rPr>
                        <a:t>El poeta lamenta que la juventud sea fugaz y afirma que aunque no logra encontrar amor y felicidad, los sigue buscand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Poema en el que el narrador</a:t>
                      </a:r>
                      <a:r>
                        <a:rPr b="0" lang="es-CO" sz="1000" spc="-1" strike="noStrike">
                          <a:solidFill>
                            <a:srgbClr val="ffffff"/>
                          </a:solidFill>
                          <a:latin typeface="Tahoma"/>
                        </a:rPr>
                        <a:t> expresa su temor hacia la vida y todo lo que eso implica. Teme no conocer el rumbo de su vida, y teme morir sin cumplir con alguna meta, al mismo tiempo que expresa su envidia por el árbol y la piedra que no tienen que sentir. </a:t>
                      </a:r>
                      <a:r>
                        <a:rPr b="0" lang="es-ES" sz="1000" spc="-1" strike="noStrike">
                          <a:solidFill>
                            <a:srgbClr val="ffffff"/>
                          </a:solidFill>
                          <a:latin typeface="Tahoma"/>
                        </a:rPr>
                        <a:t>Darío expresa su preocupación por las incertidumbres de la vida y por la muerte</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LO XIX: MODERNISMO</a:t>
            </a:r>
            <a:endParaRPr b="0" lang="en-US" sz="4400" spc="-1" strike="noStrike">
              <a:solidFill>
                <a:srgbClr val="ffffcc"/>
              </a:solidFill>
              <a:latin typeface="Tahoma"/>
            </a:endParaRPr>
          </a:p>
        </p:txBody>
      </p:sp>
      <p:graphicFrame>
        <p:nvGraphicFramePr>
          <p:cNvPr id="149" name=""/>
          <p:cNvGraphicFramePr/>
          <p:nvPr/>
        </p:nvGraphicFramePr>
        <p:xfrm>
          <a:off x="457200" y="1600200"/>
          <a:ext cx="8229600" cy="4711680"/>
        </p:xfrm>
        <a:graphic>
          <a:graphicData uri="http://schemas.openxmlformats.org/drawingml/2006/table">
            <a:tbl>
              <a:tblPr/>
              <a:tblGrid>
                <a:gridCol w="2057400"/>
                <a:gridCol w="2057400"/>
                <a:gridCol w="2057400"/>
                <a:gridCol w="2057400"/>
              </a:tblGrid>
              <a:tr h="493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Roosevelt, Poema VIII</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rítica socio-polític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od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En esta carta Darío critica a Roosevelt, por su política exterior, por su poder y por el capitalismo de su país. </a:t>
                      </a:r>
                      <a:r>
                        <a:rPr b="0" lang="es-ES" sz="1600" spc="-1" strike="noStrike">
                          <a:solidFill>
                            <a:srgbClr val="ffffff"/>
                          </a:solidFill>
                          <a:latin typeface="Tahoma"/>
                        </a:rPr>
                        <a:t>Darío dedica esta oda a Theodore Roosevelt, presidente de Estados Unidos, y expresa sus preocupaciones políticas en las relaciones entre Estados Unidos y América Latina</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   </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inguen entre una España real miserable y otra España oficial falsa y aparente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enten un gran interés y amor por la Castilla miserable de los pueblos abandonados y polvoriento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fieren un lenguaje más cercano a la lengua de la calle, de sintaxis más corta y carácter impresionista; recuperan las palabras tradicionale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pesimismo es la actitud más corriente entre ello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n Manuel Bueno,márti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ledades, II    (“He andado muchos camin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Galerías, XXV    (“La primavera besa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overbios y cantares, XXIX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minante, son tus huell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5" name=""/>
          <p:cNvGraphicFramePr/>
          <p:nvPr/>
        </p:nvGraphicFramePr>
        <p:xfrm>
          <a:off x="457200" y="1600200"/>
          <a:ext cx="8229600" cy="5200560"/>
        </p:xfrm>
        <a:graphic>
          <a:graphicData uri="http://schemas.openxmlformats.org/drawingml/2006/table">
            <a:tbl>
              <a:tblPr/>
              <a:tblGrid>
                <a:gridCol w="2057400"/>
                <a:gridCol w="2057400"/>
                <a:gridCol w="2057400"/>
                <a:gridCol w="2057400"/>
              </a:tblGrid>
              <a:tr h="538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an Manuel Bueno,márti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oledades, II    (“He andado muchos camin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San Manuel, Ángela, Blasillo el bobo, Lázaro, la madr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u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clas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Ángela está confesando en un escrito sobre sus impresiones de la vida de  San Manuel, el sacerdote de la aldea, y quien es candidato para la beatificación.  Ella escribe sobre su relación con Manuel, sus conflictos y como él confía en ella</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el poeta describe el camino de su vida y los tipos de gente que ha encontrado, contrastando y criticando las diferencias sociales.</a:t>
                      </a:r>
                      <a:r>
                        <a:rPr b="0" lang="en-US" sz="1200" spc="-1" strike="noStrike">
                          <a:solidFill>
                            <a:srgbClr val="ffffff"/>
                          </a:solidFill>
                          <a:latin typeface="Tahoma"/>
                        </a:rPr>
                        <a:t> </a:t>
                      </a:r>
                      <a:r>
                        <a:rPr b="0" lang="es-ES" sz="1200" spc="-1" strike="noStrike">
                          <a:solidFill>
                            <a:srgbClr val="ffffff"/>
                          </a:solidFill>
                          <a:latin typeface="Tahoma"/>
                        </a:rPr>
                        <a:t>Los seres humanos compartimos los afanes, las alegrías, las labores y las imperfecciones de esta vida. Mientras vamos forjando nuestro camino en la vida, nos une nuestra común humanidad</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ción del '98</a:t>
            </a:r>
            <a:endParaRPr b="0" lang="en-US" sz="4400" spc="-1" strike="noStrike">
              <a:solidFill>
                <a:srgbClr val="ffffcc"/>
              </a:solidFill>
              <a:latin typeface="Tahoma"/>
            </a:endParaRPr>
          </a:p>
        </p:txBody>
      </p:sp>
      <p:graphicFrame>
        <p:nvGraphicFramePr>
          <p:cNvPr id="157"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Galerías, XXV    (“La primavera besa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overbios y cantares, XXIX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minante, son tus huell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rmon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vid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val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n este poema el poeta describe y alaba la primavera.</a:t>
                      </a:r>
                      <a:r>
                        <a:rPr b="0" lang="en-US" sz="1200" spc="-1" strike="noStrike">
                          <a:solidFill>
                            <a:srgbClr val="ffffff"/>
                          </a:solidFill>
                          <a:latin typeface="Tahoma"/>
                        </a:rPr>
                        <a:t> </a:t>
                      </a:r>
                      <a:r>
                        <a:rPr b="0" lang="es-ES" sz="1200" spc="-1" strike="noStrike">
                          <a:solidFill>
                            <a:srgbClr val="ffffff"/>
                          </a:solidFill>
                          <a:latin typeface="Tahoma"/>
                        </a:rPr>
                        <a:t>La primavera hace recordar al poeta que dejó pasar su juventud sin realmente vivirla, porque faltó el amor</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que describe la vida del hombre como un camino eterno y variado y en el que el mensaje es siempre seguir adelante y no mirar atrás.</a:t>
                      </a:r>
                      <a:r>
                        <a:rPr b="0" lang="en-US" sz="1200" spc="-1" strike="noStrike">
                          <a:solidFill>
                            <a:srgbClr val="ffffff"/>
                          </a:solidFill>
                          <a:latin typeface="Tahoma"/>
                        </a:rPr>
                        <a:t> </a:t>
                      </a:r>
                      <a:r>
                        <a:rPr b="0" lang="es-ES" sz="1200" spc="-1" strike="noStrike">
                          <a:solidFill>
                            <a:srgbClr val="ffffff"/>
                          </a:solidFill>
                          <a:latin typeface="Tahoma"/>
                        </a:rPr>
                        <a:t>Cada uno traza su propio camino en la vida, camino que no se repite, y que se ha de borrar con el tiempo</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 </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racterísticas histórico-sociales</a:t>
            </a:r>
            <a:r>
              <a:rPr b="0" lang="en-US" sz="3200" spc="-1" strike="noStrike">
                <a:solidFill>
                  <a:srgbClr val="ffffff"/>
                </a:solidFill>
                <a:latin typeface="Tahoma"/>
              </a:rPr>
              <a:t>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grandes instituciones, como la Iglesia, pierden influencia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contraposición con la Modernidad, la Postmodernidad es la época del desencanto. Se renuncia a las utopías y a la idea de progreso </a:t>
            </a:r>
            <a:endParaRPr b="0" lang="en-US" sz="3200" spc="-1" strike="noStrike">
              <a:solidFill>
                <a:srgbClr val="ffffff"/>
              </a:solidFill>
              <a:latin typeface="Tahoma"/>
            </a:endParaRPr>
          </a:p>
          <a:p>
            <a:pPr marL="566640" indent="-56664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alorización de la naturaleza y la defensa del medio ambiente, se mezcla con la compulsión al consum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racterísticas socio-psicológicas</a:t>
            </a:r>
            <a:r>
              <a:rPr b="0" lang="en-US" sz="2800" spc="-1" strike="noStrike">
                <a:solidFill>
                  <a:srgbClr val="ffffff"/>
                </a:solidFill>
                <a:latin typeface="Tahoma"/>
              </a:rPr>
              <a:t>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individuos solo quieren vivir el presente, el futuro y el pasado pierden importancia</a:t>
            </a:r>
            <a:r>
              <a:rPr b="0" lang="en-US" sz="2800" spc="-1" strike="noStrike">
                <a:solidFill>
                  <a:srgbClr val="ffffff"/>
                </a:solidFill>
                <a:latin typeface="Tahoma"/>
              </a:rPr>
              <a:t>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y una búsqueda del inmediato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caracteriza por el proceso de perdida de la personalidad individual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hace culto al cuerpo y la liberación personal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didas de fe en la razón y la ciencia, pero en contrapartida se hace culto a la tecnología </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aparición de idealism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Tú me quieres blanc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eso ancestr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Julia de Burg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utorretrat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oema 15</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5" name=""/>
          <p:cNvGraphicFramePr/>
          <p:nvPr/>
        </p:nvGraphicFramePr>
        <p:xfrm>
          <a:off x="457200" y="1600200"/>
          <a:ext cx="8229600" cy="4834080"/>
        </p:xfrm>
        <a:graphic>
          <a:graphicData uri="http://schemas.openxmlformats.org/drawingml/2006/table">
            <a:tbl>
              <a:tblPr/>
              <a:tblGrid>
                <a:gridCol w="2057400"/>
                <a:gridCol w="2057400"/>
                <a:gridCol w="2057400"/>
                <a:gridCol w="2057400"/>
              </a:tblGrid>
              <a:tr h="5198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Tú me quieres blanc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eso ancestra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pape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poetisa muestra su indignación ante las exigencias de su amante.</a:t>
                      </a:r>
                      <a:r>
                        <a:rPr b="0" lang="en-US" sz="1200" spc="-1" strike="noStrike">
                          <a:solidFill>
                            <a:srgbClr val="ffffff"/>
                          </a:solidFill>
                          <a:latin typeface="Tahoma"/>
                        </a:rPr>
                        <a:t> </a:t>
                      </a:r>
                      <a:r>
                        <a:rPr b="0" lang="es-ES" sz="1200" spc="-1" strike="noStrike">
                          <a:solidFill>
                            <a:srgbClr val="ffffff"/>
                          </a:solidFill>
                          <a:latin typeface="Tahoma"/>
                        </a:rPr>
                        <a:t>En este poema Storni muestra su indignación ante las exigencias de pureza que el hombre pretende imponer sobre la mujer</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poetisa lamenta como la sociedad niega a los hombres la posibilidad de llorar.</a:t>
                      </a:r>
                      <a:r>
                        <a:rPr b="0" lang="en-US" sz="1200" spc="-1" strike="noStrike">
                          <a:solidFill>
                            <a:srgbClr val="ffffff"/>
                          </a:solidFill>
                          <a:latin typeface="Tahoma"/>
                        </a:rPr>
                        <a:t> </a:t>
                      </a:r>
                      <a:r>
                        <a:rPr b="0" lang="es-ES" sz="1200" spc="-1" strike="noStrike">
                          <a:solidFill>
                            <a:srgbClr val="ffffff"/>
                          </a:solidFill>
                          <a:latin typeface="Tahoma"/>
                        </a:rPr>
                        <a:t>Storni lamenta la rigidez estoica que la sociedad impone a los hombres, prohibiéndoles el desahogo que da el llanto. Una sola lágrima varonil destila el peso del sufrimiento de generaciones de hombres machos que no lloraron</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s XIV – XV:  </a:t>
            </a:r>
            <a:r>
              <a:rPr b="0" lang="en-US" sz="4000" spc="-1" strike="noStrike">
                <a:solidFill>
                  <a:srgbClr val="ffffcc"/>
                </a:solidFill>
                <a:latin typeface="Tahoma"/>
                <a:ea typeface="Tahoma"/>
              </a:rPr>
              <a:t>Época medieval</a:t>
            </a:r>
            <a:endParaRPr b="0" lang="en-US" sz="4000" spc="-1" strike="noStrike">
              <a:solidFill>
                <a:srgbClr val="ffffcc"/>
              </a:solidFill>
              <a:latin typeface="Tahoma"/>
            </a:endParaRPr>
          </a:p>
        </p:txBody>
      </p:sp>
      <p:graphicFrame>
        <p:nvGraphicFramePr>
          <p:cNvPr id="95" name=""/>
          <p:cNvGraphicFramePr/>
          <p:nvPr/>
        </p:nvGraphicFramePr>
        <p:xfrm>
          <a:off x="457200" y="1600200"/>
          <a:ext cx="8229600" cy="4827600"/>
        </p:xfrm>
        <a:graphic>
          <a:graphicData uri="http://schemas.openxmlformats.org/drawingml/2006/table">
            <a:tbl>
              <a:tblPr/>
              <a:tblGrid>
                <a:gridCol w="2057400"/>
                <a:gridCol w="2057400"/>
                <a:gridCol w="2057400"/>
                <a:gridCol w="2057400"/>
              </a:tblGrid>
              <a:tr h="482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conde Lucanor: Ejemplo XXXV De lo que aconteció a un mancebo que casó con una mujer muy fuerte y muy brava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rey moro que perdió Alhama</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conde Arnald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7" name=""/>
          <p:cNvGraphicFramePr/>
          <p:nvPr/>
        </p:nvGraphicFramePr>
        <p:xfrm>
          <a:off x="457200" y="1600200"/>
          <a:ext cx="8229600" cy="5016600"/>
        </p:xfrm>
        <a:graphic>
          <a:graphicData uri="http://schemas.openxmlformats.org/drawingml/2006/table">
            <a:tbl>
              <a:tblPr/>
              <a:tblGrid>
                <a:gridCol w="2057400"/>
                <a:gridCol w="2057400"/>
                <a:gridCol w="2057400"/>
                <a:gridCol w="2057400"/>
              </a:tblGrid>
              <a:tr h="5198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 Julia de Burg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utorretrat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poetis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 vs. La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autora se dirige a sí misma como si fuera otra persona, criticando la vida que lleva y las restricciones que impone la sociedad en que vive.</a:t>
                      </a:r>
                      <a:r>
                        <a:rPr b="0" lang="en-US" sz="1200" spc="-1" strike="noStrike">
                          <a:solidFill>
                            <a:srgbClr val="ffffff"/>
                          </a:solidFill>
                          <a:latin typeface="Tahoma"/>
                        </a:rPr>
                        <a:t> </a:t>
                      </a:r>
                      <a:r>
                        <a:rPr b="0" lang="es-ES" sz="1200" spc="-1" strike="noStrike">
                          <a:solidFill>
                            <a:srgbClr val="ffffff"/>
                          </a:solidFill>
                          <a:latin typeface="Tahoma"/>
                        </a:rPr>
                        <a:t>En este poema, Julia de Burgos habla consigo misma: Julia, la poeta, habla con Julia, la señora de sociedad. La poeta explora las contradicciones dentro de sí misma, entre su yo interior y su vida social</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ema en el que la autora se describe honesta y simplemente.</a:t>
                      </a:r>
                      <a:r>
                        <a:rPr b="0" lang="en-US" sz="1200" spc="-1" strike="noStrike">
                          <a:solidFill>
                            <a:srgbClr val="ffffff"/>
                          </a:solidFill>
                          <a:latin typeface="Tahoma"/>
                        </a:rPr>
                        <a:t> </a:t>
                      </a:r>
                      <a:r>
                        <a:rPr b="0" lang="es-ES" sz="1200" spc="-1" strike="noStrike">
                          <a:solidFill>
                            <a:srgbClr val="ffffff"/>
                          </a:solidFill>
                          <a:latin typeface="Tahoma"/>
                        </a:rPr>
                        <a:t>Castellanos describe, en tono de sátira, lo que es ser mujer en su época. Para la poeta, ser mujer es un juego de apariencias</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MODERNISMO</a:t>
            </a:r>
            <a:endParaRPr b="0" lang="en-US" sz="4400" spc="-1" strike="noStrike">
              <a:solidFill>
                <a:srgbClr val="ffffcc"/>
              </a:solidFill>
              <a:latin typeface="Tahoma"/>
            </a:endParaRPr>
          </a:p>
        </p:txBody>
      </p:sp>
      <p:graphicFrame>
        <p:nvGraphicFramePr>
          <p:cNvPr id="169" name=""/>
          <p:cNvGraphicFramePr/>
          <p:nvPr/>
        </p:nvGraphicFramePr>
        <p:xfrm>
          <a:off x="457200" y="1600200"/>
          <a:ext cx="8229600" cy="4700520"/>
        </p:xfrm>
        <a:graphic>
          <a:graphicData uri="http://schemas.openxmlformats.org/drawingml/2006/table">
            <a:tbl>
              <a:tblPr/>
              <a:tblGrid>
                <a:gridCol w="2057400"/>
                <a:gridCol w="2057400"/>
                <a:gridCol w="2057400"/>
                <a:gridCol w="2057400"/>
              </a:tblGrid>
              <a:tr h="4916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oema 15</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Cuenta los pensamientos del poeta al contemplar a su amada en silencio y cómo se da cuenta de lo terrible que sería su vida sin ella.</a:t>
                      </a:r>
                      <a:r>
                        <a:rPr b="0" lang="en-US" sz="1400" spc="-1" strike="noStrike">
                          <a:solidFill>
                            <a:srgbClr val="ffffff"/>
                          </a:solidFill>
                          <a:latin typeface="Tahoma"/>
                        </a:rPr>
                        <a:t> </a:t>
                      </a:r>
                      <a:r>
                        <a:rPr b="0" lang="es-ES" sz="1400" spc="-1" strike="noStrike">
                          <a:solidFill>
                            <a:srgbClr val="ffffff"/>
                          </a:solidFill>
                          <a:latin typeface="Tahoma"/>
                        </a:rPr>
                        <a:t>La amada del poeta se sume en el silencio, donde él la siente alejada; la contempla amorosamente, a pesar del distanciamiento, y le basta una palabra o una sonrisa de ella para ponerse contento de nuevo</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 </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oeta/artista vanguardista es inconformista.  Busca un arte que responda a esta novedad interna que el hombre está viviendo, apoyándose en la novedad original que se lleva dentro</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la poesía se juega constantemente con el símbolo</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a:t>
            </a:r>
            <a:r>
              <a:rPr b="0" lang="es-ES" sz="2800" spc="-1" strike="noStrike">
                <a:solidFill>
                  <a:srgbClr val="ffffff"/>
                </a:solidFill>
                <a:latin typeface="Tahoma"/>
              </a:rPr>
              <a:t>xiste una conciencia social que los lleva a tomar posiciones frente al hombre y su destino</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Profundiza en el mundo interior de los personajes, pues se les presenta a través de sus más escondidos estados del alm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3" name=""/>
          <p:cNvGraphicFramePr/>
          <p:nvPr/>
        </p:nvGraphicFramePr>
        <p:xfrm>
          <a:off x="457200" y="1600200"/>
          <a:ext cx="8229600" cy="6108840"/>
        </p:xfrm>
        <a:graphic>
          <a:graphicData uri="http://schemas.openxmlformats.org/drawingml/2006/table">
            <a:tbl>
              <a:tblPr/>
              <a:tblGrid>
                <a:gridCol w="2057400"/>
                <a:gridCol w="2057400"/>
                <a:gridCol w="2057400"/>
                <a:gridCol w="2057400"/>
              </a:tblGrid>
              <a:tr h="634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Walking aroun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da a la alcachof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mance sonámbu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Romance de la luna, lu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mance de la pena neg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monja git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ndimiento de Antoñito el Camborio en el camino de Sevill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uerte de Antoñito el Cambo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lada de los dos abue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ensemayá</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delantal blanco</a:t>
                      </a:r>
                      <a:endParaRPr b="0" lang="en-US" sz="1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5" name=""/>
          <p:cNvGraphicFramePr/>
          <p:nvPr/>
        </p:nvGraphicFramePr>
        <p:xfrm>
          <a:off x="457200" y="1600200"/>
          <a:ext cx="8229600" cy="5016600"/>
        </p:xfrm>
        <a:graphic>
          <a:graphicData uri="http://schemas.openxmlformats.org/drawingml/2006/table">
            <a:tbl>
              <a:tblPr/>
              <a:tblGrid>
                <a:gridCol w="2057400"/>
                <a:gridCol w="2057400"/>
                <a:gridCol w="2057400"/>
                <a:gridCol w="2057400"/>
              </a:tblGrid>
              <a:tr h="538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Walking aroun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Oda a la alcachof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gul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humillació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l poeta describe la vida urbana con repugnancia y hastío</a:t>
                      </a:r>
                      <a:r>
                        <a:rPr b="0" lang="en-US" sz="1200" spc="-1" strike="noStrike">
                          <a:solidFill>
                            <a:srgbClr val="ffffff"/>
                          </a:solidFill>
                          <a:latin typeface="Tahoma"/>
                        </a:rPr>
                        <a:t>. </a:t>
                      </a:r>
                      <a:r>
                        <a:rPr b="0" lang="es-ES" sz="1200" spc="-1" strike="noStrike">
                          <a:solidFill>
                            <a:srgbClr val="ffffff"/>
                          </a:solidFill>
                          <a:latin typeface="Tahoma"/>
                        </a:rPr>
                        <a:t>Mediante una serie de imágenes grotescas, el poeta da rienda suelta a la repugnancia y al hastío que siente ante la vida urbana que observa en sus deambulaciones callejeras, una vida fea, opresiva e indigna</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Una alcachofa, orgullosa y fuerte, sueña con una vida de guerrera, pero su destino no es otro sino la cocina.</a:t>
                      </a:r>
                      <a:r>
                        <a:rPr b="0" lang="en-US" sz="1200" spc="-1" strike="noStrike">
                          <a:solidFill>
                            <a:srgbClr val="ffffff"/>
                          </a:solidFill>
                          <a:latin typeface="Tahoma"/>
                        </a:rPr>
                        <a:t> Una alcachofa orgullosa, bien armada de escamas y espinas, sueña con una carrera como guerrero, pero su destino no es la batalla, sino la cocina, donde tiene que rendir su tierno corazón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7" name=""/>
          <p:cNvGraphicFramePr/>
          <p:nvPr/>
        </p:nvGraphicFramePr>
        <p:xfrm>
          <a:off x="457200" y="1600200"/>
          <a:ext cx="8229600" cy="5237280"/>
        </p:xfrm>
        <a:graphic>
          <a:graphicData uri="http://schemas.openxmlformats.org/drawingml/2006/table">
            <a:tbl>
              <a:tblPr/>
              <a:tblGrid>
                <a:gridCol w="2057400"/>
                <a:gridCol w="2057400"/>
                <a:gridCol w="2057400"/>
                <a:gridCol w="2057400"/>
              </a:tblGrid>
              <a:tr h="5601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casa de Bernarda Alb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sonámbul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Bernarda, María Josefa, La Poncia, Las criadas, Angustias, Magdalena, Amelia, Martirio, Adela, Pepe el Roman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gitano, la gitana, el padre, las autoridad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roles de hombres y mujeres en la socie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pasion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celo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beldía vs. La sumis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vida de una viuda que se obstina en dominar a sus cinco hijas y cómo algunas lo aceptan sumisamente mientras que la más joven se rebela y muere trágicamente</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historia de una gitana enamorada que fiel y ansiosamente espera a su amor  en la baranda. Y cómo su encuentro es interrumpido por los enemigos de su amante.</a:t>
                      </a:r>
                      <a:r>
                        <a:rPr b="0" lang="en-US" sz="1200" spc="-1" strike="noStrike">
                          <a:solidFill>
                            <a:srgbClr val="ffffff"/>
                          </a:solidFill>
                          <a:latin typeface="Tahoma"/>
                        </a:rPr>
                        <a:t> </a:t>
                      </a:r>
                      <a:r>
                        <a:rPr b="0" lang="es-ES" sz="1200" spc="-1" strike="noStrike">
                          <a:solidFill>
                            <a:srgbClr val="ffffff"/>
                          </a:solidFill>
                          <a:latin typeface="Tahoma"/>
                        </a:rPr>
                        <a:t>El mozo gitano, de vida arriesgada, llega al fin a la casa de la gitana, queriendo tardíamente cambiar de vida; la gitana que la esperó ya se mece sobre el aljibe, y el joven mismo está cerca de la muerte</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79"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Romance de la luna, lu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 la pena negr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lun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ni</a:t>
                      </a:r>
                      <a:r>
                        <a:rPr b="0" lang="en-US" sz="1400" spc="-1" strike="noStrike">
                          <a:solidFill>
                            <a:srgbClr val="ffffff"/>
                          </a:solidFill>
                          <a:latin typeface="Tahoma"/>
                          <a:ea typeface="Tahoma"/>
                        </a:rPr>
                        <a:t>ñ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Soledad Montoy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seductora luna, figura mítica, llega como bailarina mortal, a la fragua de los gitanos, estando allí, a solas, el niño</a:t>
                      </a:r>
                      <a:endParaRPr b="0" lang="en-US" sz="14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ledad Montoya es la personificación de la pena negra, ante una naturaleza indiferente a su angustia. Una voz compasiva le advierte que su pasión desenfrenada llevará a la muerte</a:t>
                      </a:r>
                      <a:r>
                        <a:rPr b="0" lang="en-US"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monja gitan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rendimiento de Antoñito el Camborio en el camino de Sevill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monja gitan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to</a:t>
                      </a:r>
                      <a:r>
                        <a:rPr b="0" lang="en-US" sz="1400" spc="-1" strike="noStrike">
                          <a:solidFill>
                            <a:srgbClr val="ffffff"/>
                          </a:solidFill>
                          <a:latin typeface="Tahoma"/>
                          <a:ea typeface="Tahoma"/>
                        </a:rPr>
                        <a:t>ñito el Cambori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rca evoca un momento conmovedor en la vida enclaustrada de una monja gitana que borda</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te romance narra un suceso funesto en la vida de Antoñito el Camborio, “gitano verdadero, incapaz del mal”, descripción del protagonista que nos ofrece el propio Lorca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uerte de Antoñito el Cambo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Balada de los dos abuel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toñito el Cambori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 el abuelo negro, el abuelo blanc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uerte</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mor</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dolo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ezcla de dos cultu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cept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gull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 aire de misterio, en este romances se acaba la vida del garboso gitano; misterio, porque al morir Antoñito llama a voces al poeta, a que le ampare la misma Guardia Civil caminera que lo acababa de apresar</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l poeta canta al mestizaje y realza las características de sus abuelos, uno español y el otro africano.</a:t>
                      </a:r>
                      <a:r>
                        <a:rPr b="0" lang="en-US" sz="1200" spc="-1" strike="noStrike">
                          <a:solidFill>
                            <a:srgbClr val="ffffff"/>
                          </a:solidFill>
                          <a:latin typeface="Tahoma"/>
                        </a:rPr>
                        <a:t> </a:t>
                      </a:r>
                      <a:r>
                        <a:rPr b="0" lang="es-ES" sz="1200" spc="-1" strike="noStrike">
                          <a:solidFill>
                            <a:srgbClr val="ffffff"/>
                          </a:solidFill>
                          <a:latin typeface="Tahoma"/>
                        </a:rPr>
                        <a:t>Guillén rinde homenaje a sus dos abuelos. El poeta celebra su doble herencia europea y africana</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NGUARDISMO</a:t>
            </a:r>
            <a:endParaRPr b="0" lang="en-US" sz="4400" spc="-1" strike="noStrike">
              <a:solidFill>
                <a:srgbClr val="ffffcc"/>
              </a:solidFill>
              <a:latin typeface="Tahoma"/>
            </a:endParaRPr>
          </a:p>
        </p:txBody>
      </p:sp>
      <p:graphicFrame>
        <p:nvGraphicFramePr>
          <p:cNvPr id="185"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ensemayá</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delantal blanc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poet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eñora, la empleada, los jóvenes, el caballero distingui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ron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Poema con gran ritmo y musicalidad que explica cómo matar una culebra.</a:t>
                      </a:r>
                      <a:r>
                        <a:rPr b="0" lang="en-US" sz="1400" spc="-1" strike="noStrike">
                          <a:solidFill>
                            <a:srgbClr val="ffffff"/>
                          </a:solidFill>
                          <a:latin typeface="Tahoma"/>
                        </a:rPr>
                        <a:t> </a:t>
                      </a:r>
                      <a:r>
                        <a:rPr b="0" lang="es-ES" sz="1400" spc="-1" strike="noStrike">
                          <a:solidFill>
                            <a:srgbClr val="ffffff"/>
                          </a:solidFill>
                          <a:latin typeface="Tahoma"/>
                        </a:rPr>
                        <a:t>Guillén presenta este poema como un canto para matar una culebra. El poema tiene características y  cualidades rítmicas y musicales</a:t>
                      </a:r>
                      <a:r>
                        <a:rPr b="0" lang="en-US"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Obra teatral que critica las diferencias sociales y se burla de la alta socie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s XIV – XV:  </a:t>
            </a:r>
            <a:r>
              <a:rPr b="0" lang="en-US" sz="4000" spc="-1" strike="noStrike">
                <a:solidFill>
                  <a:srgbClr val="ffffcc"/>
                </a:solidFill>
                <a:latin typeface="Tahoma"/>
                <a:ea typeface="Tahoma"/>
              </a:rPr>
              <a:t>Época medieval</a:t>
            </a:r>
            <a:endParaRPr b="0" lang="en-US" sz="4000" spc="-1" strike="noStrike">
              <a:solidFill>
                <a:srgbClr val="ffffcc"/>
              </a:solidFill>
              <a:latin typeface="Tahoma"/>
            </a:endParaRPr>
          </a:p>
        </p:txBody>
      </p:sp>
      <p:graphicFrame>
        <p:nvGraphicFramePr>
          <p:cNvPr id="97" name=""/>
          <p:cNvGraphicFramePr/>
          <p:nvPr/>
        </p:nvGraphicFramePr>
        <p:xfrm>
          <a:off x="457200" y="1600200"/>
          <a:ext cx="8229600" cy="5041800"/>
        </p:xfrm>
        <a:graphic>
          <a:graphicData uri="http://schemas.openxmlformats.org/drawingml/2006/table">
            <a:tbl>
              <a:tblPr/>
              <a:tblGrid>
                <a:gridCol w="2057400"/>
                <a:gridCol w="2057400"/>
                <a:gridCol w="2057400"/>
                <a:gridCol w="2057400"/>
              </a:tblGrid>
              <a:tr h="540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conde Lucanor: Ejemplo XXXV De lo que aconteció a un mancebo que casó con una mujer muy fuerte y muy brav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rey moro que perdió</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Alhama</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omance del conde Arnaldos</a:t>
                      </a:r>
                      <a:r>
                        <a:rPr b="0" lang="en-US" sz="2800" spc="-1" strike="noStrike">
                          <a:solidFill>
                            <a:srgbClr val="ffff00"/>
                          </a:solidFill>
                          <a:latin typeface="Tahoma"/>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atronio, el Conde Lucanor, la mujer brava, el manceb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Rey mor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conde, el mariner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erencias de los roles sociales del hombre y la muje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Violencia como medio de contro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ulp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guerr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derrot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tristez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ntas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admir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acrifici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Texto que cuenta la historia de cómo un joven se hace respetar por su temida espo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Canto del Rey Moro en el que anuncia la pérdida de su preciada Alhama y cómo sus súbditos le culpan y reprochan.</a:t>
                      </a:r>
                      <a:r>
                        <a:rPr b="0" lang="en-US" sz="900" spc="-1" strike="noStrike">
                          <a:solidFill>
                            <a:srgbClr val="ffffff"/>
                          </a:solidFill>
                          <a:latin typeface="Tahoma"/>
                        </a:rPr>
                        <a:t> </a:t>
                      </a:r>
                      <a:r>
                        <a:rPr b="0" lang="es-ES" sz="900" spc="-1" strike="noStrike">
                          <a:solidFill>
                            <a:srgbClr val="ffffff"/>
                          </a:solidFill>
                          <a:latin typeface="Tahoma"/>
                        </a:rPr>
                        <a:t>Llegan noticias a oídos del disoluto rey de Granada que se ha perdido Alhama, fortaleza clave en el camino a Granada. Son los últimos años de la Reconquista, llevada a su término, a los 700 años, por los Reyes Católicos, Fernando e Isabel</a:t>
                      </a:r>
                      <a:endParaRPr b="0" lang="en-US" sz="900" spc="-1" strike="noStrike">
                        <a:solidFill>
                          <a:srgbClr val="ffffff"/>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Romance que trata sobre un Conde que se encuentra a la orilla de mar y un marinero que entona un canto mágico que hace que los peces suban a la superficie.</a:t>
                      </a:r>
                      <a:r>
                        <a:rPr b="0" lang="en-US" sz="900" spc="-1" strike="noStrike">
                          <a:solidFill>
                            <a:srgbClr val="ffffff"/>
                          </a:solidFill>
                          <a:latin typeface="Tahoma"/>
                        </a:rPr>
                        <a:t> </a:t>
                      </a:r>
                      <a:r>
                        <a:rPr b="0" lang="es-ES" sz="900" spc="-1" strike="noStrike">
                          <a:solidFill>
                            <a:srgbClr val="ffffff"/>
                          </a:solidFill>
                          <a:latin typeface="Tahoma"/>
                        </a:rPr>
                        <a:t>Una mañana el conde Arnaldos ve venir un barco piloteado por un enigmático marinero, que le requiere al conde un precio extraordinario a cambio de repetirle su canción</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om Latinoamericano     </a:t>
            </a:r>
            <a:endParaRPr b="0" lang="en-US" sz="4400" spc="-1" strike="noStrike">
              <a:solidFill>
                <a:srgbClr val="ffffcc"/>
              </a:solidFill>
              <a:latin typeface="Tahoma"/>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distinguen por tener una serie de innovaciones técnicas en la narrativa, como el Realismo mágico y Lo real maravilloso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as novelas no tienen orden cronológico de los sucesos que ocurren en é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89" name=""/>
          <p:cNvGraphicFramePr/>
          <p:nvPr/>
        </p:nvGraphicFramePr>
        <p:xfrm>
          <a:off x="457200" y="1600200"/>
          <a:ext cx="8229600" cy="5168880"/>
        </p:xfrm>
        <a:graphic>
          <a:graphicData uri="http://schemas.openxmlformats.org/drawingml/2006/table">
            <a:tbl>
              <a:tblPr/>
              <a:tblGrid>
                <a:gridCol w="2057400"/>
                <a:gridCol w="2057400"/>
                <a:gridCol w="2057400"/>
                <a:gridCol w="2057400"/>
              </a:tblGrid>
              <a:tr h="5402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hij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o oyes ladrar los perr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hac Moo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s palab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Su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muerte y la brújul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tinuidad de los parqu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noche boca arrib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siesta del mart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ahogado más hermoso del mund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señor muy viejo con unas alas enorm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Un día de ést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rodigiosa tarde de Baltaza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viuda de Montie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hijo</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No oyes ladrar los perro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ijo y el padr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gnacio, el padre, la mad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escape de la reali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o aceptación de la muerte</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sufrimient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incondicion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padre viudo ha enseñado a su hijo el arte de sobrevivir en la selva; sin embargo, el peligro acecha de continuo. El cuento que recuenta la tragedia que vive un padre al perder a su hijo en un accidente de cacería</a:t>
                      </a:r>
                      <a:r>
                        <a:rPr b="0" lang="en-US" sz="1200" spc="-1" strike="noStrike">
                          <a:solidFill>
                            <a:srgbClr val="ffffff"/>
                          </a:solidFill>
                          <a:latin typeface="Tahoma"/>
                        </a:rPr>
                        <a:t> </a:t>
                      </a: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n padre lleva a su hijo sobre los hombros para que lo atienda un médico. Por el camino se revela la amargura de las relaciones entre padre e hijo</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3" name=""/>
          <p:cNvGraphicFramePr/>
          <p:nvPr/>
        </p:nvGraphicFramePr>
        <p:xfrm>
          <a:off x="457200" y="1600200"/>
          <a:ext cx="8229600" cy="4578480"/>
        </p:xfrm>
        <a:graphic>
          <a:graphicData uri="http://schemas.openxmlformats.org/drawingml/2006/table">
            <a:tbl>
              <a:tblPr/>
              <a:tblGrid>
                <a:gridCol w="2057400"/>
                <a:gridCol w="2057400"/>
                <a:gridCol w="2057400"/>
                <a:gridCol w="2057400"/>
              </a:tblGrid>
              <a:tr h="491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Chac Moo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os palab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Chac Mool, Filiberto, Pepe</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elisa, el coronel, el mulat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anipu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ezcla entre realidad y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poder de las palabra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agi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iliberto es un hombre que tiene gran admiración por el mundo indígena, y por eso es que compra una estatua del dios de la lluvia. La estatua cobra vida y toma control de la casa y también de la vida de Filiberto. Filiberto muere en Acapulco bajo misteriosas circunstancias después de haber comprado una estatua del dios maya Chac Mool, en este cuento que mezcla el humor con antiguos mitos</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uenta la historia de una vendedora de palabras y la forma como conquistó al amor de su vida.</a:t>
                      </a:r>
                      <a:r>
                        <a:rPr b="0" lang="en-US" sz="1200" spc="-1" strike="noStrike">
                          <a:solidFill>
                            <a:srgbClr val="ffffff"/>
                          </a:solidFill>
                          <a:latin typeface="Tahoma"/>
                        </a:rPr>
                        <a:t> </a:t>
                      </a:r>
                      <a:r>
                        <a:rPr b="0" lang="es-ES" sz="1200" spc="-1" strike="noStrike">
                          <a:solidFill>
                            <a:srgbClr val="ffffff"/>
                          </a:solidFill>
                          <a:latin typeface="Tahoma"/>
                        </a:rPr>
                        <a:t>Belisa Crepusculario, protagonista de este cuento, se gana la vida de una manera muy particular. Su oficio es vender palabras de pueblo en pueblo</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5" name=""/>
          <p:cNvGraphicFramePr/>
          <p:nvPr/>
        </p:nvGraphicFramePr>
        <p:xfrm>
          <a:off x="457200" y="1600200"/>
          <a:ext cx="8229600" cy="5486400"/>
        </p:xfrm>
        <a:graphic>
          <a:graphicData uri="http://schemas.openxmlformats.org/drawingml/2006/table">
            <a:tbl>
              <a:tblPr/>
              <a:tblGrid>
                <a:gridCol w="2057400"/>
                <a:gridCol w="2057400"/>
                <a:gridCol w="2057400"/>
                <a:gridCol w="2057400"/>
              </a:tblGrid>
              <a:tr h="5640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Su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muerte y la brújul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Juan Dahlman, los gauchos, los empleados del hospit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oenrot, Scharlach, Yarmolisnky</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orige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icción vs. La realida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imetrí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misterio</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iron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Juan Dahlman se lastima y es transferido a un sueño surreal.  Hay verosimilitudes entre la ficción de su sueño y la realidad de su vida (como la aguja y el puñal).  Al final de la obra, el lector supone que el protagonista muere. Juan Dahlmann es el protagonista de este cuento gauchesco, donde tiene que probar su honor. En este cuento se entrelazan los temas del honor, el sueño y la identidad.</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detective trata de resolver filosóficamente el misterio de unos crímenes, y aunque se da cuenta de que los tres crímenes ocurrieron en tres sitios que formaron un triángulo equilátero, no se da cuenta que el cuarto lugar que completaba el rombo era el lugar de su propia muerte. El detective Lönnrot se enreda tanto en su propia teoría sobre una serie de crímenes que intenta resolver, que cae en la trampa que le tiende el asesino, Scharlach. Lönnrot no logra evitar que se cometa el último crimen</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7" name=""/>
          <p:cNvGraphicFramePr/>
          <p:nvPr/>
        </p:nvGraphicFramePr>
        <p:xfrm>
          <a:off x="457200" y="1600200"/>
          <a:ext cx="8229600" cy="5273640"/>
        </p:xfrm>
        <a:graphic>
          <a:graphicData uri="http://schemas.openxmlformats.org/drawingml/2006/table">
            <a:tbl>
              <a:tblPr/>
              <a:tblGrid>
                <a:gridCol w="2057400"/>
                <a:gridCol w="2057400"/>
                <a:gridCol w="2057400"/>
                <a:gridCol w="2057400"/>
              </a:tblGrid>
              <a:tr h="544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tinuidad de los parqu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noche boca arriba</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ombre leyendo, la mujer, el amant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hombre en la moto, los indios, los empleados del hospit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trai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sorpresa</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alidad vs. La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realidad vs. La fic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muer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l cuento abre con un hombre sentando en una silla de terciopelo verde leyendo un libro. El hombre continúa leyendo y poco a poco el hombre se transporta al lugar donde toma la acción de la novela que está leyendo, solo para que al final ambas historias se unan en una. Un hombre se pierde en la lectura de una novela, pero de una manera insospechada, y se confunden literatura y realidad</a:t>
                      </a:r>
                      <a:r>
                        <a:rPr b="0" lang="en-US" sz="1400" spc="-1" strike="noStrike">
                          <a:solidFill>
                            <a:srgbClr val="ffffff"/>
                          </a:solidFill>
                          <a:latin typeface="Tahoma"/>
                        </a:rPr>
                        <a:t> </a:t>
                      </a:r>
                      <a:endParaRPr b="0" lang="en-US" sz="14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indio quien es perseguido para se sacrificado sueña con una vida en un mundo diferente, sólo que para que al final el lector se de cuenta que la vida real es no es más que el sueño del indio antes de morir. La víctima de un accidente sufre de pesadillas en el hospital, y empieza a oscilar incontrolablemente entre la vida contemporánea y un mundo soñado de aborígenes mesoamericanos, hasta despertarse al fin a su enigmática realidad</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199" name=""/>
          <p:cNvGraphicFramePr/>
          <p:nvPr/>
        </p:nvGraphicFramePr>
        <p:xfrm>
          <a:off x="457200" y="1600200"/>
          <a:ext cx="8229600" cy="4572000"/>
        </p:xfrm>
        <a:graphic>
          <a:graphicData uri="http://schemas.openxmlformats.org/drawingml/2006/table">
            <a:tbl>
              <a:tblPr/>
              <a:tblGrid>
                <a:gridCol w="2057400"/>
                <a:gridCol w="2057400"/>
                <a:gridCol w="2057400"/>
                <a:gridCol w="2057400"/>
              </a:tblGrid>
              <a:tr h="518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siesta del mart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El ahogado más hermoso del mund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a niña, la madre, el ladrón, el cura y la hermana del cur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steban, las mujeres y hombres del pueblo, el padre Gonzag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dolor</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amor matern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humillación</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ambio soci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tradicion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diferencias entre los roles sociales de hombres y mujer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ra cumplir con un deber de madre, una mujer estoica viaja con su hija a Macondo, donde tiene que afrontar un calor sofocante y la hostilidad del pueblo. </a:t>
                      </a:r>
                      <a:r>
                        <a:rPr b="0" lang="es-CO" sz="1000" spc="-1" strike="noStrike">
                          <a:solidFill>
                            <a:srgbClr val="ffffff"/>
                          </a:solidFill>
                          <a:latin typeface="Tahoma"/>
                        </a:rPr>
                        <a:t>En esta obra, una señora y su hija van en un tren hacia un pueblo. Al llegar buscan la casa del cura para pedirle las llaves del cementerio. Luego de una pequeña discusión la madre logra que el cura le de las llaves y finalmente va al cementerio frente a los ojos discriminatorios de las personas del puebl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uento que narra la llegada de un ahogado extraordinario a las orillas del pueblo y cómo los habitantes se apropian y compadecen de él. Sólo para que al final quieran ser mejores para merecerlo</a:t>
                      </a:r>
                      <a:r>
                        <a:rPr b="0" lang="en-US" sz="1000" spc="-1" strike="noStrike">
                          <a:solidFill>
                            <a:srgbClr val="ffffff"/>
                          </a:solidFill>
                          <a:latin typeface="Tahoma"/>
                        </a:rPr>
                        <a:t>. </a:t>
                      </a:r>
                      <a:r>
                        <a:rPr b="0" lang="es-ES" sz="1000" spc="-1" strike="noStrike">
                          <a:solidFill>
                            <a:srgbClr val="ffffff"/>
                          </a:solidFill>
                          <a:latin typeface="Tahoma"/>
                        </a:rPr>
                        <a:t>Varado en la playa de un pueblo solitario, un ahogado descomunal logra cambiar la vida de sus habitantes para siempre</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20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señor muy viejo con unas alas enorme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Un día de ésto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elayo, Elisenda, la vecina, el ánge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Don Aurelio Escovar, el hijo del dentista, el alcald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rítica social, económica y religios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corrupci</a:t>
                      </a:r>
                      <a:r>
                        <a:rPr b="0" lang="en-US" sz="1400" spc="-1" strike="noStrike">
                          <a:solidFill>
                            <a:srgbClr val="ffffff"/>
                          </a:solidFill>
                          <a:latin typeface="Tahoma"/>
                          <a:ea typeface="Tahoma"/>
                        </a:rPr>
                        <a:t>ó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injusticia socia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l pod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Un ángel cae en el patio de Elisenda y Pelayo; todo el pueblo va a su casa a ver el espectáculo. La gente hace cola para verlo, lo maltratan; le queman la piel, no tienen consideración por sus sentimientos físicos y mentales; al final de la obra, sopla un gran viento, y el hombre con alas se va.... Un ser extraño llega de improviso al pueblo y todos se burlan de él y lo maltratan, como si fuera un animal de circo</a:t>
                      </a:r>
                      <a:r>
                        <a:rPr b="0" lang="en-US" sz="1000" spc="-1" strike="noStrike">
                          <a:solidFill>
                            <a:srgbClr val="ffffff"/>
                          </a:solidFill>
                          <a:latin typeface="Tahoma"/>
                        </a:rPr>
                        <a:t> </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l alcalde del pueblo se presenta en el consultorio del dentista para que éste le saque una muela. El dentista lo hace, pero cobra al alcalde un precio inusitado</a:t>
                      </a:r>
                      <a:r>
                        <a:rPr b="0" lang="en-US" sz="1000" spc="-1" strike="noStrike">
                          <a:solidFill>
                            <a:srgbClr val="ffffff"/>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BOOM”</a:t>
            </a:r>
            <a:endParaRPr b="0" lang="en-US" sz="4400" spc="-1" strike="noStrike">
              <a:solidFill>
                <a:srgbClr val="ffffcc"/>
              </a:solidFill>
              <a:latin typeface="Tahoma"/>
            </a:endParaRPr>
          </a:p>
        </p:txBody>
      </p:sp>
      <p:graphicFrame>
        <p:nvGraphicFramePr>
          <p:cNvPr id="20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61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 prodigiosa tarde de Baltaza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a viuda de Montiel</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ltazar, </a:t>
                      </a:r>
                      <a:r>
                        <a:rPr b="0" lang="en-US" sz="1400" spc="-1" strike="noStrike">
                          <a:solidFill>
                            <a:srgbClr val="ffffff"/>
                          </a:solidFill>
                          <a:latin typeface="Tahoma"/>
                          <a:ea typeface="Tahoma"/>
                        </a:rPr>
                        <a:t>Úrsula, José Montiel, Pepe Montiel, La esposa de José Montiel</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viuda, Los hijos Montiel,  El Sr. Carmichae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 aparenci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l Poder</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 colisión de dos clas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ciales distintas</a:t>
                      </a:r>
                      <a:endParaRPr b="0" lang="en-US" sz="14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 aparenci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a corrupci</a:t>
                      </a:r>
                      <a:r>
                        <a:rPr b="0" lang="en-US" sz="1400" spc="-1" strike="noStrike">
                          <a:solidFill>
                            <a:srgbClr val="ffffff"/>
                          </a:solidFill>
                          <a:latin typeface="Tahoma"/>
                          <a:ea typeface="Tahoma"/>
                        </a:rPr>
                        <a:t>ó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La ironía</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ltazar es pobre y se gana la vida ejerciendo su oficio de carpintero. Acaba de terminar la jaula más bella del mundo y tiene la esperanza de venderla por mucho dinero</a:t>
                      </a:r>
                      <a:r>
                        <a:rPr b="0" lang="en-US" sz="1000" spc="-1" strike="noStrike">
                          <a:solidFill>
                            <a:srgbClr val="ffffff"/>
                          </a:solidFill>
                          <a:latin typeface="Tahoma"/>
                        </a:rPr>
                        <a:t> </a:t>
                      </a: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José Montiel, el hombre más rico y más poderoso del pueblo, acaba de morir. Su viuda piensa que era un santo, pero ni sus propios hijos vienen al entierro. García Márquez nos revela por qué Montiel era tan odiado</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posguerra civil /  neorealista</a:t>
            </a:r>
            <a:endParaRPr b="0" lang="en-US" sz="4400" spc="-1" strike="noStrike">
              <a:solidFill>
                <a:srgbClr val="ffffcc"/>
              </a:solidFill>
              <a:latin typeface="Tahoma"/>
            </a:endParaRPr>
          </a:p>
        </p:txBody>
      </p:sp>
      <p:graphicFrame>
        <p:nvGraphicFramePr>
          <p:cNvPr id="205"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atadu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i caballo mag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iteratura hispanoamericana: Período colonial</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guerras y la cristianización del recién descubierto continente no crearon un clima propicio para el cultivo de la poesía lírica y la narrativa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iteratura latinoamericana del siglo XVI sobresale principalmente por sus obras didácticas en prosa y por las crónicas. Especialmente destacadas en este terreno resultan la historia de la conquista de la Nueva Españ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posguerra civil /  neorealista</a:t>
            </a:r>
            <a:endParaRPr b="0" lang="en-US" sz="4400" spc="-1" strike="noStrike">
              <a:solidFill>
                <a:srgbClr val="ffffcc"/>
              </a:solidFill>
              <a:latin typeface="Tahoma"/>
            </a:endParaRPr>
          </a:p>
        </p:txBody>
      </p:sp>
      <p:graphicFrame>
        <p:nvGraphicFramePr>
          <p:cNvPr id="207" name=""/>
          <p:cNvGraphicFramePr/>
          <p:nvPr/>
        </p:nvGraphicFramePr>
        <p:xfrm>
          <a:off x="457200" y="1600200"/>
          <a:ext cx="8229600" cy="4602240"/>
        </p:xfrm>
        <a:graphic>
          <a:graphicData uri="http://schemas.openxmlformats.org/drawingml/2006/table">
            <a:tbl>
              <a:tblPr/>
              <a:tblGrid>
                <a:gridCol w="2057400"/>
                <a:gridCol w="2057400"/>
                <a:gridCol w="2057400"/>
                <a:gridCol w="2057400"/>
              </a:tblGrid>
              <a:tr h="4605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ra</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Las atadura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i caballo mag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delaida, Herminia, Benjamín, Phillippe, Santiago, Don Félix</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l narrador, su padre, el caballo mag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s relaciones familiar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os valores sociales</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l choque cultural</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libertad </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fantasí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esumen</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n este cuento, Martín Gaite pone de manifiesto la dificultad de la comunicación en la vida cotidiana de sus personajes. La existencia idílica, llena de promesa, de una aldeana gallega, inesperadamente se descarrila cuando ésta llega a la adolescencia Alina, una muchacha joven e inteligente, tiene una relación muy cercana con su padre y abuelo. Alina va a estudiar a París, conoce a Phillippe, queda embarazada y en consecuencia, ella y sus padres sufren al darse cuenta que la vida que tanto habían planeado cambia de rumbo</a:t>
                      </a:r>
                      <a:r>
                        <a:rPr b="0" lang="en-US" sz="1000" spc="-1" strike="noStrike">
                          <a:solidFill>
                            <a:srgbClr val="ffffff"/>
                          </a:solidFill>
                          <a:latin typeface="Tahoma"/>
                        </a:rPr>
                        <a:t> </a:t>
                      </a: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uento que narra los esfuerzos de un hombre por atrapar un caballo y cómo, al lograrlo, decide dejarlo en libertad para seguir admirándolo.</a:t>
                      </a:r>
                      <a:r>
                        <a:rPr b="0" lang="en-US" sz="1000" spc="-1" strike="noStrike">
                          <a:solidFill>
                            <a:srgbClr val="ffffff"/>
                          </a:solidFill>
                          <a:latin typeface="Tahoma"/>
                        </a:rPr>
                        <a:t> </a:t>
                      </a:r>
                      <a:r>
                        <a:rPr b="0" lang="es-ES" sz="1000" spc="-1" strike="noStrike">
                          <a:solidFill>
                            <a:srgbClr val="ffffff"/>
                          </a:solidFill>
                          <a:latin typeface="Tahoma"/>
                        </a:rPr>
                        <a:t>El autor recuerda su niñez en Nuevo México, en este cuento de carácter costumbrista y sabor mitológico</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PLEONASMO</a:t>
            </a:r>
            <a:r>
              <a:rPr b="0" lang="en-US" sz="3200" spc="-1" strike="noStrike">
                <a:solidFill>
                  <a:srgbClr val="ffffff"/>
                </a:solidFill>
                <a:latin typeface="Tahoma"/>
              </a:rPr>
              <a:t>: </a:t>
            </a:r>
            <a:r>
              <a:rPr b="0" lang="es-ES_tradnl" sz="3200" spc="-1" strike="noStrike">
                <a:solidFill>
                  <a:srgbClr val="ffffff"/>
                </a:solidFill>
                <a:latin typeface="Tahoma"/>
              </a:rPr>
              <a:t>Se produce esta figura cuando el emisor añade palabras que no suponen ninguna mejora para la comprensió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 Sube para arriba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Temprano madrugó</a:t>
            </a:r>
            <a:r>
              <a:rPr b="0" i="1" lang="en-US" sz="3200" spc="-1" strike="noStrike">
                <a:solidFill>
                  <a:srgbClr val="33cc33"/>
                </a:solidFill>
                <a:latin typeface="Tahoma"/>
              </a:rPr>
              <a:t> </a:t>
            </a:r>
            <a:r>
              <a:rPr b="0" i="1" lang="en-US" sz="3200" spc="-1" strike="noStrike">
                <a:solidFill>
                  <a:srgbClr val="33cc33"/>
                </a:solidFill>
                <a:latin typeface="Tahoma"/>
              </a:rPr>
              <a:t>la madrugada</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SINONIMIA</a:t>
            </a:r>
            <a:r>
              <a:rPr b="0" lang="en-US" sz="3200" spc="-1" strike="noStrike">
                <a:solidFill>
                  <a:srgbClr val="ffffff"/>
                </a:solidFill>
                <a:latin typeface="Tahoma"/>
              </a:rPr>
              <a:t>:  </a:t>
            </a:r>
            <a:r>
              <a:rPr b="0" lang="es-ES_tradnl" sz="3200" spc="-1" strike="noStrike">
                <a:solidFill>
                  <a:srgbClr val="ffffff"/>
                </a:solidFill>
                <a:latin typeface="Tahoma"/>
              </a:rPr>
              <a:t>Esta figura permite insistir en una idea utilizando términos de significado similar y expresión diferent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Mentira¡ No tengo ni dudas, ni cel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ni inquietud, ni angustias, ni penas, ni anhel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N</a:t>
            </a:r>
            <a:r>
              <a:rPr b="0" lang="en-US" sz="3200" spc="-1" strike="noStrike">
                <a:solidFill>
                  <a:srgbClr val="ffff00"/>
                </a:solidFill>
                <a:latin typeface="Tahoma"/>
                <a:ea typeface="Tahoma"/>
              </a:rPr>
              <a:t>É</a:t>
            </a:r>
            <a:r>
              <a:rPr b="0" lang="en-US" sz="3200" spc="-1" strike="noStrike">
                <a:solidFill>
                  <a:srgbClr val="ffff00"/>
                </a:solidFill>
                <a:latin typeface="Tahoma"/>
              </a:rPr>
              <a:t>CDOQUE</a:t>
            </a:r>
            <a:r>
              <a:rPr b="0" lang="en-US" sz="3200" spc="-1" strike="noStrike">
                <a:solidFill>
                  <a:srgbClr val="ffffff"/>
                </a:solidFill>
                <a:latin typeface="Tahoma"/>
              </a:rPr>
              <a:t>: Consiste en referirse al todo mencionando una parte, o designar la materia que forma una cosa o uno de sus atributos en vez de la cosa mism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ej</a:t>
            </a:r>
            <a:r>
              <a:rPr b="0" lang="en-US" sz="3200" spc="-1" strike="noStrike">
                <a:solidFill>
                  <a:srgbClr val="33cc33"/>
                </a:solidFill>
                <a:latin typeface="Tahoma"/>
              </a:rPr>
              <a:t>. referirse a la pelota de fútbol como el esférico o el cuero</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rPr>
              <a:t>EPÍTETO:  </a:t>
            </a:r>
            <a:r>
              <a:rPr b="0" lang="en-US" sz="2400" spc="-1" strike="noStrike">
                <a:solidFill>
                  <a:srgbClr val="ffffff"/>
                </a:solidFill>
                <a:latin typeface="Tahoma"/>
              </a:rPr>
              <a:t>Un adjetivo atributivo no restrictivo. Se adjunta al sustantivo sin para expresar una cualidad sin necesidad lógica de expresarl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el silencio de la selva </a:t>
            </a:r>
            <a:r>
              <a:rPr b="1" i="1" lang="es-ES_tradnl" sz="2400" spc="-1" strike="noStrike">
                <a:solidFill>
                  <a:srgbClr val="33cc33"/>
                </a:solidFill>
                <a:latin typeface="Tahoma"/>
              </a:rPr>
              <a:t>umbros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la esquividad y apartamien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del </a:t>
            </a:r>
            <a:r>
              <a:rPr b="1" i="1" lang="es-ES_tradnl" sz="2400" spc="-1" strike="noStrike">
                <a:solidFill>
                  <a:srgbClr val="33cc33"/>
                </a:solidFill>
                <a:latin typeface="Tahoma"/>
              </a:rPr>
              <a:t>solitario</a:t>
            </a:r>
            <a:r>
              <a:rPr b="0" i="1" lang="es-ES_tradnl" sz="2400" spc="-1" strike="noStrike">
                <a:solidFill>
                  <a:srgbClr val="33cc33"/>
                </a:solidFill>
                <a:latin typeface="Tahoma"/>
              </a:rPr>
              <a:t> monte me agradab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por ti la </a:t>
            </a:r>
            <a:r>
              <a:rPr b="1" i="1" lang="es-ES_tradnl" sz="2400" spc="-1" strike="noStrike">
                <a:solidFill>
                  <a:srgbClr val="33cc33"/>
                </a:solidFill>
                <a:latin typeface="Tahoma"/>
              </a:rPr>
              <a:t>verde</a:t>
            </a:r>
            <a:r>
              <a:rPr b="0" i="1" lang="es-ES_tradnl" sz="2400" spc="-1" strike="noStrike">
                <a:solidFill>
                  <a:srgbClr val="33cc33"/>
                </a:solidFill>
                <a:latin typeface="Tahoma"/>
              </a:rPr>
              <a:t> hierba, el </a:t>
            </a:r>
            <a:r>
              <a:rPr b="1" i="1" lang="es-ES_tradnl" sz="2400" spc="-1" strike="noStrike">
                <a:solidFill>
                  <a:srgbClr val="33cc33"/>
                </a:solidFill>
                <a:latin typeface="Tahoma"/>
              </a:rPr>
              <a:t>fresco</a:t>
            </a:r>
            <a:r>
              <a:rPr b="0" i="1" lang="es-ES_tradnl" sz="2400" spc="-1" strike="noStrike">
                <a:solidFill>
                  <a:srgbClr val="33cc33"/>
                </a:solidFill>
                <a:latin typeface="Tahoma"/>
              </a:rPr>
              <a:t> vien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el </a:t>
            </a:r>
            <a:r>
              <a:rPr b="1" i="1" lang="es-ES_tradnl" sz="2400" spc="-1" strike="noStrike">
                <a:solidFill>
                  <a:srgbClr val="33cc33"/>
                </a:solidFill>
                <a:latin typeface="Tahoma"/>
              </a:rPr>
              <a:t>blanco</a:t>
            </a:r>
            <a:r>
              <a:rPr b="0" i="1" lang="es-ES_tradnl" sz="2400" spc="-1" strike="noStrike">
                <a:solidFill>
                  <a:srgbClr val="33cc33"/>
                </a:solidFill>
                <a:latin typeface="Tahoma"/>
              </a:rPr>
              <a:t> lirio y </a:t>
            </a:r>
            <a:r>
              <a:rPr b="1" i="1" lang="es-ES_tradnl" sz="2400" spc="-1" strike="noStrike">
                <a:solidFill>
                  <a:srgbClr val="33cc33"/>
                </a:solidFill>
                <a:latin typeface="Tahoma"/>
              </a:rPr>
              <a:t>colorada</a:t>
            </a:r>
            <a:r>
              <a:rPr b="0" i="1" lang="es-ES_tradnl" sz="2400" spc="-1" strike="noStrike">
                <a:solidFill>
                  <a:srgbClr val="33cc33"/>
                </a:solidFill>
                <a:latin typeface="Tahoma"/>
              </a:rPr>
              <a:t> ros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y </a:t>
            </a:r>
            <a:r>
              <a:rPr b="1" i="1" lang="es-ES_tradnl" sz="2400" spc="-1" strike="noStrike">
                <a:solidFill>
                  <a:srgbClr val="33cc33"/>
                </a:solidFill>
                <a:latin typeface="Tahoma"/>
              </a:rPr>
              <a:t>dulce</a:t>
            </a:r>
            <a:r>
              <a:rPr b="0" i="1" lang="es-ES_tradnl" sz="2400" spc="-1" strike="noStrike">
                <a:solidFill>
                  <a:srgbClr val="33cc33"/>
                </a:solidFill>
                <a:latin typeface="Tahoma"/>
              </a:rPr>
              <a:t> primavera deseab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Convida a </a:t>
            </a:r>
            <a:r>
              <a:rPr b="1" i="1" lang="es-ES_tradnl" sz="2400" spc="-1" strike="noStrike">
                <a:solidFill>
                  <a:srgbClr val="33cc33"/>
                </a:solidFill>
                <a:latin typeface="Tahoma"/>
              </a:rPr>
              <a:t>dulce </a:t>
            </a:r>
            <a:r>
              <a:rPr b="0" i="1" lang="es-ES_tradnl" sz="2400" spc="-1" strike="noStrike">
                <a:solidFill>
                  <a:srgbClr val="33cc33"/>
                </a:solidFill>
                <a:latin typeface="Tahoma"/>
              </a:rPr>
              <a:t>sueñ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aquel </a:t>
            </a:r>
            <a:r>
              <a:rPr b="1" i="1" lang="es-ES_tradnl" sz="2400" spc="-1" strike="noStrike">
                <a:solidFill>
                  <a:srgbClr val="33cc33"/>
                </a:solidFill>
                <a:latin typeface="Tahoma"/>
              </a:rPr>
              <a:t>manso</a:t>
            </a:r>
            <a:r>
              <a:rPr b="0" i="1" lang="es-ES_tradnl" sz="2400" spc="-1" strike="noStrike">
                <a:solidFill>
                  <a:srgbClr val="33cc33"/>
                </a:solidFill>
                <a:latin typeface="Tahoma"/>
              </a:rPr>
              <a:t> ruid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cc33"/>
                </a:solidFill>
                <a:latin typeface="Tahoma"/>
              </a:rPr>
              <a:t>del agua que la </a:t>
            </a:r>
            <a:r>
              <a:rPr b="1" i="1" lang="es-ES_tradnl" sz="2400" spc="-1" strike="noStrike">
                <a:solidFill>
                  <a:srgbClr val="33cc33"/>
                </a:solidFill>
                <a:latin typeface="Tahoma"/>
              </a:rPr>
              <a:t>clara </a:t>
            </a:r>
            <a:r>
              <a:rPr b="0" i="1" lang="es-ES_tradnl" sz="2400" spc="-1" strike="noStrike">
                <a:solidFill>
                  <a:srgbClr val="33cc33"/>
                </a:solidFill>
                <a:latin typeface="Tahoma"/>
              </a:rPr>
              <a:t>fuente enví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AN</a:t>
            </a:r>
            <a:r>
              <a:rPr b="0" lang="en-US" sz="3200" spc="-1" strike="noStrike">
                <a:solidFill>
                  <a:srgbClr val="ffff00"/>
                </a:solidFill>
                <a:latin typeface="Tahoma"/>
                <a:ea typeface="Tahoma"/>
              </a:rPr>
              <a:t>Á</a:t>
            </a:r>
            <a:r>
              <a:rPr b="0" lang="es-ES_tradnl" sz="3200" spc="-1" strike="noStrike">
                <a:solidFill>
                  <a:srgbClr val="ffff00"/>
                </a:solidFill>
                <a:latin typeface="Tahoma"/>
              </a:rPr>
              <a:t>FORA</a:t>
            </a:r>
            <a:r>
              <a:rPr b="0" lang="en-US" sz="3200" spc="-1" strike="noStrike">
                <a:solidFill>
                  <a:srgbClr val="ffffff"/>
                </a:solidFill>
                <a:latin typeface="Tahoma"/>
              </a:rPr>
              <a:t>:  Repite a principio de verso, de frase o de periodo una o varias palabras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llama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acerc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empuja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continuamente</a:t>
            </a:r>
            <a:r>
              <a:rPr b="0" i="1" lang="es-ES_tradnl" sz="3200" spc="-1" strike="noStrike">
                <a:solidFill>
                  <a:srgbClr val="33cc33"/>
                </a:solidFill>
                <a:latin typeface="Tahoma"/>
              </a:rPr>
              <a:t> me alej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y </a:t>
            </a:r>
            <a:r>
              <a:rPr b="1" i="1" lang="es-ES_tradnl" sz="3200" spc="-1" strike="noStrike">
                <a:solidFill>
                  <a:srgbClr val="33cc33"/>
                </a:solidFill>
                <a:latin typeface="Tahoma"/>
              </a:rPr>
              <a:t>continuamente</a:t>
            </a:r>
            <a:r>
              <a:rPr b="0" i="1" lang="es-ES_tradnl" sz="3200" spc="-1" strike="noStrike">
                <a:solidFill>
                  <a:srgbClr val="33cc33"/>
                </a:solidFill>
                <a:latin typeface="Tahoma"/>
              </a:rPr>
              <a:t> herid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a mi soledad me vuel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ahoma"/>
              </a:rPr>
              <a:t>AP</a:t>
            </a:r>
            <a:r>
              <a:rPr b="0" lang="en-US" sz="2800" spc="-1" strike="noStrike">
                <a:solidFill>
                  <a:srgbClr val="ffff00"/>
                </a:solidFill>
                <a:latin typeface="Tahoma"/>
              </a:rPr>
              <a:t>Ó</a:t>
            </a:r>
            <a:r>
              <a:rPr b="0" lang="es-ES_tradnl" sz="2800" spc="-1" strike="noStrike">
                <a:solidFill>
                  <a:srgbClr val="ffff00"/>
                </a:solidFill>
                <a:latin typeface="Tahoma"/>
              </a:rPr>
              <a:t>STROFE</a:t>
            </a:r>
            <a:r>
              <a:rPr b="0" lang="en-US" sz="2800" spc="-1" strike="noStrike">
                <a:solidFill>
                  <a:srgbClr val="ffffff"/>
                </a:solidFill>
                <a:latin typeface="Tahoma"/>
              </a:rPr>
              <a:t>:  El poeta se dirige a un ser real o imaginario para apelarlo o interrogarlo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Dulce vecino de la verde selv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Huésped eterno del abril flori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Vital aliento de la madre Vénu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Céfiro blan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Si de mis ansias el amor supis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Tú, que las quejas de mi voz llevast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Oye, no temas, y á mi ninfa di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cc33"/>
                </a:solidFill>
                <a:latin typeface="Tahoma"/>
              </a:rPr>
              <a:t>Dile que mu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ANT</a:t>
            </a:r>
            <a:r>
              <a:rPr b="0" lang="en-US" sz="3200" spc="-1" strike="noStrike">
                <a:solidFill>
                  <a:srgbClr val="ffff00"/>
                </a:solidFill>
                <a:latin typeface="Tahoma"/>
              </a:rPr>
              <a:t>Í</a:t>
            </a:r>
            <a:r>
              <a:rPr b="0" lang="es-ES_tradnl" sz="3200" spc="-1" strike="noStrike">
                <a:solidFill>
                  <a:srgbClr val="ffff00"/>
                </a:solidFill>
                <a:latin typeface="Tahoma"/>
              </a:rPr>
              <a:t>TESIS</a:t>
            </a:r>
            <a:r>
              <a:rPr b="0" lang="es-ES_tradnl" sz="3200" spc="-1" strike="noStrike">
                <a:solidFill>
                  <a:srgbClr val="ffffff"/>
                </a:solidFill>
                <a:latin typeface="Tahoma"/>
              </a:rPr>
              <a:t>:  </a:t>
            </a:r>
            <a:r>
              <a:rPr b="0" lang="en-US" sz="3200" spc="-1" strike="noStrike">
                <a:solidFill>
                  <a:srgbClr val="ffffff"/>
                </a:solidFill>
                <a:latin typeface="Tahoma"/>
              </a:rPr>
              <a:t>Provoca extrañez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s-ES_tradnl" sz="3200" spc="-1" strike="noStrike">
                <a:solidFill>
                  <a:srgbClr val="33cc33"/>
                </a:solidFill>
                <a:latin typeface="Tahoma"/>
              </a:rPr>
              <a:t>Purpúreas rosas sobre Galat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la Alba entre lilios cándidos deshoj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cc33"/>
                </a:solidFill>
                <a:latin typeface="Tahoma"/>
              </a:rPr>
              <a:t>duda el Amor cuál más su color s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si púrpura nevada o nieve ro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ENGABALGAMIENTO</a:t>
            </a:r>
            <a:r>
              <a:rPr b="0" lang="es-ES_tradnl" sz="3200" spc="-1" strike="noStrike">
                <a:solidFill>
                  <a:srgbClr val="ffffff"/>
                </a:solidFill>
                <a:latin typeface="Tahoma"/>
              </a:rPr>
              <a:t>:  </a:t>
            </a:r>
            <a:r>
              <a:rPr b="0" lang="en-US" sz="3200" spc="-1" strike="noStrike">
                <a:solidFill>
                  <a:srgbClr val="ffffff"/>
                </a:solidFill>
                <a:latin typeface="Tahoma"/>
              </a:rPr>
              <a:t>Cuando una frase no termina en un verso, sino en el siguient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Oh Dios. Si he de morir, quiero tenerte / despierto. Y, noche a noche, no sé cuándo / oirás mi voz. Oh Dios. Estoy hablando..."</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NESTESIA</a:t>
            </a:r>
            <a:r>
              <a:rPr b="0" lang="en-US" sz="3200" spc="-1" strike="noStrike">
                <a:solidFill>
                  <a:srgbClr val="ffffff"/>
                </a:solidFill>
                <a:latin typeface="Tahoma"/>
              </a:rPr>
              <a:t>:   Cuando una sensación describe a otr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rPr>
              <a:t>“</a:t>
            </a:r>
            <a:r>
              <a:rPr b="0" i="1" lang="en-US" sz="3200" spc="-1" strike="noStrike">
                <a:solidFill>
                  <a:srgbClr val="33cc33"/>
                </a:solidFill>
                <a:latin typeface="Tahoma"/>
              </a:rPr>
              <a:t>Bajo la sensaci</a:t>
            </a:r>
            <a:r>
              <a:rPr b="0" i="1" lang="en-US" sz="3200" spc="-1" strike="noStrike">
                <a:solidFill>
                  <a:srgbClr val="33cc33"/>
                </a:solidFill>
                <a:latin typeface="Tahoma"/>
                <a:ea typeface="Tahoma"/>
              </a:rPr>
              <a:t>ón del clorofor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me hacen temblar con alarido intern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la luz de acuario de un jardín modern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Tahoma"/>
                <a:ea typeface="Tahoma"/>
              </a:rPr>
              <a:t>y el </a:t>
            </a:r>
            <a:r>
              <a:rPr b="1" i="1" lang="en-US" sz="3200" spc="-1" strike="noStrike">
                <a:solidFill>
                  <a:srgbClr val="33cc33"/>
                </a:solidFill>
                <a:latin typeface="Tahoma"/>
                <a:ea typeface="Tahoma"/>
              </a:rPr>
              <a:t>amarillo olor</a:t>
            </a:r>
            <a:r>
              <a:rPr b="0" i="1" lang="en-US" sz="3200" spc="-1" strike="noStrike">
                <a:solidFill>
                  <a:srgbClr val="33cc33"/>
                </a:solidFill>
                <a:latin typeface="Tahoma"/>
                <a:ea typeface="Tahoma"/>
              </a:rPr>
              <a:t> del clorofor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Literatura documental del “encuentro entre dos culturas”</a:t>
            </a:r>
            <a:endParaRPr b="0" lang="en-US" sz="4000" spc="-1" strike="noStrike">
              <a:solidFill>
                <a:srgbClr val="ffffcc"/>
              </a:solidFill>
              <a:latin typeface="Tahoma"/>
            </a:endParaRPr>
          </a:p>
        </p:txBody>
      </p:sp>
      <p:graphicFrame>
        <p:nvGraphicFramePr>
          <p:cNvPr id="101"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aufragio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PER</a:t>
            </a:r>
            <a:r>
              <a:rPr b="0" lang="en-US" sz="3200" spc="-1" strike="noStrike">
                <a:solidFill>
                  <a:srgbClr val="ffff00"/>
                </a:solidFill>
                <a:latin typeface="Tahoma"/>
                <a:ea typeface="Tahoma"/>
              </a:rPr>
              <a:t>Í</a:t>
            </a:r>
            <a:r>
              <a:rPr b="0" lang="es-ES" sz="3200" spc="-1" strike="noStrike">
                <a:solidFill>
                  <a:srgbClr val="ffff00"/>
                </a:solidFill>
                <a:latin typeface="Tahoma"/>
              </a:rPr>
              <a:t>FRASIS</a:t>
            </a:r>
            <a:r>
              <a:rPr b="0" lang="es-ES" sz="3200" spc="-1" strike="noStrike">
                <a:solidFill>
                  <a:srgbClr val="ffffff"/>
                </a:solidFill>
                <a:latin typeface="Tahoma"/>
              </a:rPr>
              <a:t>:  </a:t>
            </a:r>
            <a:r>
              <a:rPr b="0" lang="en-US" sz="3200" spc="-1" strike="noStrike">
                <a:solidFill>
                  <a:srgbClr val="ffffff"/>
                </a:solidFill>
                <a:latin typeface="Tahoma"/>
              </a:rPr>
              <a:t>Decir con muchas palabras lo que se podría decir con sencillez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ej. decir </a:t>
            </a:r>
            <a:r>
              <a:rPr b="0" i="1" lang="en-US" sz="3200" spc="-1" strike="noStrike">
                <a:solidFill>
                  <a:srgbClr val="33cc33"/>
                </a:solidFill>
                <a:latin typeface="Tahoma"/>
              </a:rPr>
              <a:t>"el pr</a:t>
            </a:r>
            <a:r>
              <a:rPr b="0" i="1" lang="en-US" sz="3200" spc="-1" strike="noStrike">
                <a:solidFill>
                  <a:srgbClr val="33cc33"/>
                </a:solidFill>
                <a:latin typeface="Tahoma"/>
                <a:ea typeface="Tahoma"/>
              </a:rPr>
              <a:t>í</a:t>
            </a:r>
            <a:r>
              <a:rPr b="0" i="1" lang="en-US" sz="3200" spc="-1" strike="noStrike">
                <a:solidFill>
                  <a:srgbClr val="33cc33"/>
                </a:solidFill>
                <a:latin typeface="Tahoma"/>
              </a:rPr>
              <a:t>ncipe de los ingenios" en vez de Miguel de Cerva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Tahoma"/>
              </a:rPr>
              <a:t>FIGURAS RETÓRICAS</a:t>
            </a: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AGEN</a:t>
            </a:r>
            <a:r>
              <a:rPr b="0" lang="en-US" sz="3200" spc="-1" strike="noStrike">
                <a:solidFill>
                  <a:srgbClr val="ffffff"/>
                </a:solidFill>
                <a:latin typeface="Tahoma"/>
              </a:rPr>
              <a:t>:   Representación mental de algo real o producto de la fantasía, o de la combinación de amb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iglo XVI:  Literatura documental del “encuentro entre dos culturas”</a:t>
            </a:r>
            <a:endParaRPr b="0" lang="en-US" sz="4000" spc="-1" strike="noStrike">
              <a:solidFill>
                <a:srgbClr val="ffffcc"/>
              </a:solidFill>
              <a:latin typeface="Tahoma"/>
            </a:endParaRPr>
          </a:p>
        </p:txBody>
      </p:sp>
      <p:graphicFrame>
        <p:nvGraphicFramePr>
          <p:cNvPr id="103"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449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br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aufragio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jes</a:t>
                      </a:r>
                      <a:endParaRPr b="0" lang="en-US" sz="2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indios, los conquistadore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choque cultura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aventur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sufrimient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esperanza</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men</a:t>
                      </a:r>
                      <a:endParaRPr b="0" lang="en-US" sz="28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Texto descriptivo que cuenta las experiencias y dificultades de los conquistadores españoles en sus primeras misiones en América</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Literatura española del Renacimiento</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valoración del mundo grecolatino, en el que se busca una nueva escala de valores para el individuo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hombre es el centro del universo capaz de dominar el mundo y crear su propio destino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antepone la razón al sentimiento y prevalece el equilibrio, la mesura y la armonía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nuevo ideal de belleza que describe el mundo no como es, sino como debería ser: la naturaleza, la mujer, el am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3:49:45Z</dcterms:created>
  <dc:creator>Ramirez_Mi</dc:creator>
  <dc:description/>
  <dc:language>en-US</dc:language>
  <cp:lastModifiedBy>HP Authorized Customer</cp:lastModifiedBy>
  <dcterms:modified xsi:type="dcterms:W3CDTF">2009-11-27T23:40:22Z</dcterms:modified>
  <cp:revision>10</cp:revision>
  <dc:subject/>
  <dc:title>Repaso de la literatura española</dc:title>
</cp:coreProperties>
</file>